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CC2F3-79F8-4F86-A8A3-EE7B4825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C1AB6-3DF7-494A-A7F3-3ABE26BE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E75D6-8520-4BC5-9CC7-9E841766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A46AC-C28C-4EB9-89B8-998DD8DA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816C-7E33-4B0B-A4B9-730513D7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A056-1FC3-43E7-BCAA-22225C2C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D8C5-8CE3-4750-80AC-758A8B79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2A7D-8624-4BB0-8F0E-58372690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E177-9209-48CC-A74A-2D0EE82D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B853-1D4C-4510-8D8B-B6364E4A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04A6-FC86-4484-ADB6-E76A19BD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91CD9-40DF-40C6-B458-EC7E175B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AE36-26CF-400A-A780-B7D0CE8F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C008-47BA-46EB-B4A6-5FE0A57C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31EE-5BF6-4C7C-B5B7-DF305C8A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AE6C-D811-4207-AAB1-8995823A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0F82-9A48-44C7-BB48-360AC346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AD07E-8DCD-4E60-9D3D-5DCC8C5F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B0520-3E51-4538-AFA2-7EBCAEA4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50315-F6C5-448C-A0F0-AFC4C0D9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1C315-60AD-4583-B719-0073A7A5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928C9-CE59-4264-A715-81CE1A08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05BEF-06D6-4BB7-A16C-723E4F31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0ABF8-DF9D-408F-BE75-75689CDF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6224-E6B3-4ACE-8DAB-7E336AA11DC2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644D-4DF9-4C12-BBA0-AA901CB75216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Mühendislikte İstatistik Metotla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Recep YURT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Çukurova Üniversites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İnşaat Mühendisliği Bölüm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1116000" y="1628640"/>
                <a:ext cx="295128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Text Box 3"/>
          <p:cNvSpPr/>
          <p:nvPr/>
        </p:nvSpPr>
        <p:spPr>
          <a:xfrm>
            <a:off x="2895480" y="533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Çarpıklık  Katsayı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4788000" y="1628640"/>
                <a:ext cx="360036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688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3" name="Group 16"/>
          <p:cNvGrpSpPr/>
          <p:nvPr/>
        </p:nvGrpSpPr>
        <p:grpSpPr>
          <a:xfrm>
            <a:off x="611280" y="3581280"/>
            <a:ext cx="8137440" cy="2727360"/>
            <a:chOff x="611280" y="3581280"/>
            <a:chExt cx="8137440" cy="2727360"/>
          </a:xfrm>
        </p:grpSpPr>
        <p:sp>
          <p:nvSpPr>
            <p:cNvPr id="174" name="Line 7"/>
            <p:cNvSpPr/>
            <p:nvPr/>
          </p:nvSpPr>
          <p:spPr>
            <a:xfrm>
              <a:off x="2652840" y="6308640"/>
              <a:ext cx="357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8"/>
            <p:cNvSpPr/>
            <p:nvPr/>
          </p:nvSpPr>
          <p:spPr>
            <a:xfrm>
              <a:off x="2652840" y="3695760"/>
              <a:ext cx="0" cy="261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9"/>
            <p:cNvSpPr/>
            <p:nvPr/>
          </p:nvSpPr>
          <p:spPr>
            <a:xfrm>
              <a:off x="2754360" y="4357800"/>
              <a:ext cx="2550960" cy="1836720"/>
            </a:xfrm>
            <a:custGeom>
              <a:avLst/>
              <a:gdLst>
                <a:gd name="textAreaLeft" fmla="*/ 0 w 2550960"/>
                <a:gd name="textAreaRight" fmla="*/ 2551320 w 2550960"/>
                <a:gd name="textAreaTop" fmla="*/ 0 h 1836720"/>
                <a:gd name="textAreaBottom" fmla="*/ 1837080 h 1836720"/>
              </a:gdLst>
              <a:ahLst/>
              <a:rect l="textAreaLeft" t="textAreaTop" r="textAreaRight" b="textAreaBottom"/>
              <a:pathLst>
                <a:path w="1200" h="776">
                  <a:moveTo>
                    <a:pt x="0" y="776"/>
                  </a:moveTo>
                  <a:cubicBezTo>
                    <a:pt x="212" y="396"/>
                    <a:pt x="424" y="16"/>
                    <a:pt x="624" y="8"/>
                  </a:cubicBezTo>
                  <a:cubicBezTo>
                    <a:pt x="824" y="0"/>
                    <a:pt x="1012" y="364"/>
                    <a:pt x="1200" y="728"/>
                  </a:cubicBezTo>
                </a:path>
              </a:pathLst>
            </a:custGeom>
            <a:noFill/>
            <a:ln w="349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822400" y="4319640"/>
              <a:ext cx="2892600" cy="1762200"/>
            </a:xfrm>
            <a:custGeom>
              <a:avLst/>
              <a:gdLst>
                <a:gd name="textAreaLeft" fmla="*/ 0 w 2892600"/>
                <a:gd name="textAreaRight" fmla="*/ 2892960 w 28926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60" h="744">
                  <a:moveTo>
                    <a:pt x="16" y="744"/>
                  </a:moveTo>
                  <a:cubicBezTo>
                    <a:pt x="8" y="396"/>
                    <a:pt x="0" y="48"/>
                    <a:pt x="112" y="24"/>
                  </a:cubicBezTo>
                  <a:cubicBezTo>
                    <a:pt x="224" y="0"/>
                    <a:pt x="480" y="488"/>
                    <a:pt x="688" y="600"/>
                  </a:cubicBezTo>
                  <a:cubicBezTo>
                    <a:pt x="896" y="712"/>
                    <a:pt x="1128" y="704"/>
                    <a:pt x="1360" y="696"/>
                  </a:cubicBezTo>
                </a:path>
              </a:pathLst>
            </a:custGeom>
            <a:noFill/>
            <a:ln w="349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3060720" y="4565520"/>
              <a:ext cx="2654280" cy="1648080"/>
            </a:xfrm>
            <a:custGeom>
              <a:avLst/>
              <a:gdLst>
                <a:gd name="textAreaLeft" fmla="*/ 0 w 2654280"/>
                <a:gd name="textAreaRight" fmla="*/ 2654640 w 2654280"/>
                <a:gd name="textAreaTop" fmla="*/ 0 h 1648080"/>
                <a:gd name="textAreaBottom" fmla="*/ 1648440 h 1648080"/>
              </a:gdLst>
              <a:ahLst/>
              <a:rect l="textAreaLeft" t="textAreaTop" r="textAreaRight" b="textAreaBottom"/>
              <a:pathLst>
                <a:path w="1248" h="696">
                  <a:moveTo>
                    <a:pt x="0" y="640"/>
                  </a:moveTo>
                  <a:cubicBezTo>
                    <a:pt x="140" y="668"/>
                    <a:pt x="280" y="696"/>
                    <a:pt x="432" y="592"/>
                  </a:cubicBezTo>
                  <a:cubicBezTo>
                    <a:pt x="584" y="488"/>
                    <a:pt x="776" y="0"/>
                    <a:pt x="912" y="16"/>
                  </a:cubicBezTo>
                  <a:cubicBezTo>
                    <a:pt x="1048" y="32"/>
                    <a:pt x="1148" y="360"/>
                    <a:pt x="1248" y="688"/>
                  </a:cubicBezTo>
                </a:path>
              </a:pathLst>
            </a:custGeom>
            <a:noFill/>
            <a:ln w="34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2"/>
            <p:cNvSpPr/>
            <p:nvPr/>
          </p:nvSpPr>
          <p:spPr>
            <a:xfrm>
              <a:off x="7040520" y="4603680"/>
              <a:ext cx="1708200" cy="110196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r>
                <a:rPr b="0" lang="tr-TR" sz="2400" spc="-1" strike="noStrike" baseline="-25000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tr-TR" sz="2400" spc="-1" strike="noStrike">
                  <a:solidFill>
                    <a:srgbClr val="000000"/>
                  </a:solidFill>
                  <a:latin typeface="Times New Roman"/>
                </a:rPr>
                <a:t>&lt;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3"/>
            <p:cNvSpPr/>
            <p:nvPr/>
          </p:nvSpPr>
          <p:spPr>
            <a:xfrm>
              <a:off x="5918040" y="3581280"/>
              <a:ext cx="1708200" cy="110016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r>
                <a:rPr b="0" lang="tr-TR" sz="2400" spc="-1" strike="noStrike" baseline="-25000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tr-TR" sz="24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4"/>
            <p:cNvSpPr/>
            <p:nvPr/>
          </p:nvSpPr>
          <p:spPr>
            <a:xfrm>
              <a:off x="611280" y="4491000"/>
              <a:ext cx="1708200" cy="1100160"/>
            </a:xfr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r>
                <a:rPr b="0" lang="tr-TR" sz="2400" spc="-1" strike="noStrike" baseline="-25000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tr-TR" sz="2400" spc="-1" strike="noStrike">
                  <a:solidFill>
                    <a:srgbClr val="000000"/>
                  </a:solidFill>
                  <a:latin typeface="Times New Roman"/>
                </a:rPr>
                <a:t>&gt;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124080" y="380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Kurtosis  Katsayı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3"/>
              <p:cNvSpPr txBox="1"/>
              <p:nvPr/>
            </p:nvSpPr>
            <p:spPr>
              <a:xfrm>
                <a:off x="1295280" y="1600200"/>
                <a:ext cx="245772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4932360" y="1484280"/>
                <a:ext cx="294336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62570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5" name="Group 10"/>
          <p:cNvGrpSpPr/>
          <p:nvPr/>
        </p:nvGrpSpPr>
        <p:grpSpPr>
          <a:xfrm>
            <a:off x="3492360" y="3644640"/>
            <a:ext cx="2971800" cy="1981440"/>
            <a:chOff x="3492360" y="3644640"/>
            <a:chExt cx="2971800" cy="1981440"/>
          </a:xfrm>
        </p:grpSpPr>
        <p:sp>
          <p:nvSpPr>
            <p:cNvPr id="186" name="Line 6"/>
            <p:cNvSpPr/>
            <p:nvPr/>
          </p:nvSpPr>
          <p:spPr>
            <a:xfrm flipV="1">
              <a:off x="3492360" y="3644640"/>
              <a:ext cx="0" cy="19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>
              <a:off x="3492360" y="5626080"/>
              <a:ext cx="297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"/>
            <p:cNvSpPr/>
            <p:nvPr/>
          </p:nvSpPr>
          <p:spPr>
            <a:xfrm>
              <a:off x="3645000" y="4241880"/>
              <a:ext cx="2522520" cy="1307880"/>
            </a:xfrm>
            <a:custGeom>
              <a:avLst/>
              <a:gdLst>
                <a:gd name="textAreaLeft" fmla="*/ 0 w 2522520"/>
                <a:gd name="textAreaRight" fmla="*/ 2522880 w 2522520"/>
                <a:gd name="textAreaTop" fmla="*/ 0 h 1307880"/>
                <a:gd name="textAreaBottom" fmla="*/ 1307880 h 1307880"/>
              </a:gdLst>
              <a:ahLst/>
              <a:rect l="textAreaLeft" t="textAreaTop" r="textAreaRight" b="textAreaBottom"/>
              <a:pathLst>
                <a:path w="1488" h="824">
                  <a:moveTo>
                    <a:pt x="0" y="824"/>
                  </a:moveTo>
                  <a:cubicBezTo>
                    <a:pt x="188" y="420"/>
                    <a:pt x="376" y="16"/>
                    <a:pt x="624" y="8"/>
                  </a:cubicBezTo>
                  <a:cubicBezTo>
                    <a:pt x="872" y="0"/>
                    <a:pt x="1344" y="648"/>
                    <a:pt x="1488" y="776"/>
                  </a:cubicBezTo>
                </a:path>
              </a:pathLst>
            </a:custGeom>
            <a:noFill/>
            <a:ln w="34920">
              <a:solidFill>
                <a:srgbClr val="0000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9"/>
            <p:cNvSpPr/>
            <p:nvPr/>
          </p:nvSpPr>
          <p:spPr>
            <a:xfrm>
              <a:off x="3568680" y="3727440"/>
              <a:ext cx="2133720" cy="175896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1344" h="1108">
                  <a:moveTo>
                    <a:pt x="0" y="1052"/>
                  </a:moveTo>
                  <a:cubicBezTo>
                    <a:pt x="136" y="968"/>
                    <a:pt x="286" y="885"/>
                    <a:pt x="384" y="716"/>
                  </a:cubicBezTo>
                  <a:cubicBezTo>
                    <a:pt x="482" y="547"/>
                    <a:pt x="527" y="80"/>
                    <a:pt x="591" y="40"/>
                  </a:cubicBezTo>
                  <a:cubicBezTo>
                    <a:pt x="655" y="0"/>
                    <a:pt x="690" y="315"/>
                    <a:pt x="768" y="476"/>
                  </a:cubicBezTo>
                  <a:cubicBezTo>
                    <a:pt x="846" y="637"/>
                    <a:pt x="960" y="900"/>
                    <a:pt x="1056" y="1004"/>
                  </a:cubicBezTo>
                  <a:cubicBezTo>
                    <a:pt x="1152" y="1108"/>
                    <a:pt x="1248" y="1104"/>
                    <a:pt x="1344" y="1100"/>
                  </a:cubicBezTo>
                </a:path>
              </a:pathLst>
            </a:custGeom>
            <a:noFill/>
            <a:ln w="316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Oval 2"/>
          <p:cNvSpPr/>
          <p:nvPr/>
        </p:nvSpPr>
        <p:spPr>
          <a:xfrm>
            <a:off x="3581280" y="2514600"/>
            <a:ext cx="2590920" cy="2438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3"/>
          <p:cNvSpPr/>
          <p:nvPr/>
        </p:nvSpPr>
        <p:spPr>
          <a:xfrm>
            <a:off x="5105520" y="3657600"/>
            <a:ext cx="68580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6599160" y="2421000"/>
            <a:ext cx="1630440" cy="609480"/>
          </a:xfr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N = 2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6705720" y="3581280"/>
            <a:ext cx="1630080" cy="609840"/>
          </a:xfr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n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1905120" y="1752480"/>
            <a:ext cx="1676160" cy="1143000"/>
          </a:xfrm>
          <a:prstGeom prst="wedgeEllipseCallout">
            <a:avLst>
              <a:gd name="adj1" fmla="val 75851"/>
              <a:gd name="adj2" fmla="val 70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993300"/>
                </a:solidFill>
                <a:latin typeface="Times New Roman"/>
              </a:rPr>
              <a:t>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993300"/>
                </a:solidFill>
                <a:latin typeface="Times New Roman"/>
              </a:rPr>
              <a:t>Kü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1752480" y="3352680"/>
            <a:ext cx="1676520" cy="1143000"/>
          </a:xfrm>
          <a:prstGeom prst="wedgeEllipseCallout">
            <a:avLst>
              <a:gd name="adj1" fmla="val 154449"/>
              <a:gd name="adj2" fmla="val 224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993300"/>
                </a:solidFill>
                <a:latin typeface="Times New Roman"/>
              </a:rPr>
              <a:t>Ör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993300"/>
                </a:solidFill>
                <a:latin typeface="Times New Roman"/>
              </a:rPr>
              <a:t>Kü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76320" y="1447920"/>
          <a:ext cx="8762760" cy="4035240"/>
        </p:xfrm>
        <a:graphic>
          <a:graphicData uri="http://schemas.openxmlformats.org/drawingml/2006/table">
            <a:tbl>
              <a:tblPr/>
              <a:tblGrid>
                <a:gridCol w="1676160"/>
                <a:gridCol w="3429000"/>
                <a:gridCol w="3657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 Kütle (Populasyo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Örn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Ortal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Vary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Stand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Sap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7" name="Object 24"/>
              <p:cNvSpPr txBox="1"/>
              <p:nvPr/>
            </p:nvSpPr>
            <p:spPr>
              <a:xfrm>
                <a:off x="6324480" y="2428920"/>
                <a:ext cx="164628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25"/>
              <p:cNvSpPr txBox="1"/>
              <p:nvPr/>
            </p:nvSpPr>
            <p:spPr>
              <a:xfrm>
                <a:off x="2050920" y="3573360"/>
                <a:ext cx="29512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6"/>
              <p:cNvSpPr txBox="1"/>
              <p:nvPr/>
            </p:nvSpPr>
            <p:spPr>
              <a:xfrm>
                <a:off x="2484360" y="2492280"/>
                <a:ext cx="227484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7"/>
              <p:cNvSpPr txBox="1"/>
              <p:nvPr/>
            </p:nvSpPr>
            <p:spPr>
              <a:xfrm>
                <a:off x="2468520" y="4545000"/>
                <a:ext cx="19209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8"/>
              <p:cNvSpPr txBox="1"/>
              <p:nvPr/>
            </p:nvSpPr>
            <p:spPr>
              <a:xfrm>
                <a:off x="5508720" y="3554280"/>
                <a:ext cx="3117600" cy="7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9"/>
              <p:cNvSpPr txBox="1"/>
              <p:nvPr/>
            </p:nvSpPr>
            <p:spPr>
              <a:xfrm>
                <a:off x="6029280" y="4624560"/>
                <a:ext cx="25732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77960" y="588960"/>
            <a:ext cx="7758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7d"/>
                </a:solidFill>
                <a:latin typeface="Arial"/>
              </a:rPr>
              <a:t>İstatistik Parametre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9640" y="1700280"/>
          <a:ext cx="2819520" cy="4846680"/>
        </p:xfrm>
        <a:graphic>
          <a:graphicData uri="http://schemas.openxmlformats.org/drawingml/2006/table">
            <a:tbl>
              <a:tblPr/>
              <a:tblGrid>
                <a:gridCol w="1905120"/>
                <a:gridCol w="914400"/>
              </a:tblGrid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3.19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.19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.19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.19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3.19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.19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.19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.19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.19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3.19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.19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012000" y="1773360"/>
          <a:ext cx="2057400" cy="4441680"/>
        </p:xfrm>
        <a:graphic>
          <a:graphicData uri="http://schemas.openxmlformats.org/drawingml/2006/table">
            <a:tbl>
              <a:tblPr/>
              <a:tblGrid>
                <a:gridCol w="1218960"/>
                <a:gridCol w="838440"/>
              </a:tblGrid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7d"/>
                </a:solidFill>
                <a:latin typeface="Arial"/>
              </a:rPr>
              <a:t>İstatistik Parametre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38080" y="1523880"/>
          <a:ext cx="7925040" cy="4930920"/>
        </p:xfrm>
        <a:graphic>
          <a:graphicData uri="http://schemas.openxmlformats.org/drawingml/2006/table">
            <a:tbl>
              <a:tblPr/>
              <a:tblGrid>
                <a:gridCol w="1295640"/>
                <a:gridCol w="1285920"/>
                <a:gridCol w="1685880"/>
                <a:gridCol w="1676160"/>
                <a:gridCol w="1981440"/>
              </a:tblGrid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ını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k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frek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ümülatif frek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ümülatif frek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40-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1944720" cy="2568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1800000" cy="2525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324000" y="3645000"/>
            <a:ext cx="3549600" cy="252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4"/>
          <a:stretch/>
        </p:blipFill>
        <p:spPr>
          <a:xfrm>
            <a:off x="5219640" y="3573360"/>
            <a:ext cx="32068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611280" y="4292640"/>
            <a:ext cx="3328920" cy="2006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5364000" y="4292640"/>
            <a:ext cx="2914920" cy="1973160"/>
          </a:xfrm>
          <a:prstGeom prst="rect">
            <a:avLst/>
          </a:prstGeom>
          <a:ln w="0">
            <a:noFill/>
          </a:ln>
        </p:spPr>
      </p:pic>
      <p:sp>
        <p:nvSpPr>
          <p:cNvPr id="119" name="6 Metin kutusu"/>
          <p:cNvSpPr/>
          <p:nvPr/>
        </p:nvSpPr>
        <p:spPr>
          <a:xfrm>
            <a:off x="3924360" y="638172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Ortalama = 10.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8 Düz Ok Bağlayıcısı"/>
          <p:cNvCxnSpPr>
            <a:stCxn id="119" idx="1"/>
          </p:cNvCxnSpPr>
          <p:nvPr/>
        </p:nvCxnSpPr>
        <p:spPr>
          <a:xfrm flipH="1" flipV="1">
            <a:off x="2339280" y="6020640"/>
            <a:ext cx="1585080" cy="515160"/>
          </a:xfrm>
          <a:prstGeom prst="straightConnector1">
            <a:avLst/>
          </a:prstGeom>
          <a:ln w="9360">
            <a:solidFill>
              <a:srgbClr val="9393fc"/>
            </a:solidFill>
            <a:miter/>
            <a:tailEnd len="med" type="arrow" w="med"/>
          </a:ln>
        </p:spPr>
      </p:cxnSp>
      <p:cxnSp>
        <p:nvCxnSpPr>
          <p:cNvPr id="121" name="10 Düz Ok Bağlayıcısı"/>
          <p:cNvCxnSpPr/>
          <p:nvPr/>
        </p:nvCxnSpPr>
        <p:spPr>
          <a:xfrm flipV="1">
            <a:off x="5435640" y="5949720"/>
            <a:ext cx="1513440" cy="575280"/>
          </a:xfrm>
          <a:prstGeom prst="straightConnector1">
            <a:avLst/>
          </a:prstGeom>
          <a:ln w="9360">
            <a:solidFill>
              <a:srgbClr val="9393fc"/>
            </a:solidFill>
            <a:miter/>
            <a:tailEnd len="med" type="arrow" w="med"/>
          </a:ln>
        </p:spPr>
      </p:cxnSp>
      <p:pic>
        <p:nvPicPr>
          <p:cNvPr id="122" name="Picture 2" descr=""/>
          <p:cNvPicPr/>
          <p:nvPr/>
        </p:nvPicPr>
        <p:blipFill>
          <a:blip r:embed="rId3"/>
          <a:stretch/>
        </p:blipFill>
        <p:spPr>
          <a:xfrm>
            <a:off x="539640" y="476280"/>
            <a:ext cx="1944720" cy="2568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4"/>
          <a:stretch/>
        </p:blipFill>
        <p:spPr>
          <a:xfrm>
            <a:off x="6300720" y="692280"/>
            <a:ext cx="180036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18 Grup"/>
          <p:cNvGrpSpPr/>
          <p:nvPr/>
        </p:nvGrpSpPr>
        <p:grpSpPr>
          <a:xfrm>
            <a:off x="826560" y="4005000"/>
            <a:ext cx="2089800" cy="1447560"/>
            <a:chOff x="826560" y="4005000"/>
            <a:chExt cx="2089800" cy="1447560"/>
          </a:xfrm>
        </p:grpSpPr>
        <p:sp>
          <p:nvSpPr>
            <p:cNvPr id="125" name="6 Düz Bağlayıcı"/>
            <p:cNvSpPr/>
            <p:nvPr/>
          </p:nvSpPr>
          <p:spPr>
            <a:xfrm>
              <a:off x="826920" y="5444640"/>
              <a:ext cx="2089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14 Grup"/>
            <p:cNvGrpSpPr/>
            <p:nvPr/>
          </p:nvGrpSpPr>
          <p:grpSpPr>
            <a:xfrm>
              <a:off x="826560" y="4005000"/>
              <a:ext cx="945000" cy="1447560"/>
              <a:chOff x="826560" y="4005000"/>
              <a:chExt cx="945000" cy="1447560"/>
            </a:xfrm>
          </p:grpSpPr>
          <p:sp>
            <p:nvSpPr>
              <p:cNvPr id="127" name="8 Düz Bağlayıcı"/>
              <p:cNvSpPr/>
              <p:nvPr/>
            </p:nvSpPr>
            <p:spPr>
              <a:xfrm flipH="1" flipV="1">
                <a:off x="826560" y="4005000"/>
                <a:ext cx="8280" cy="14475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11 Düz Bağlayıcı"/>
              <p:cNvSpPr/>
              <p:nvPr/>
            </p:nvSpPr>
            <p:spPr>
              <a:xfrm flipH="1" flipV="1">
                <a:off x="1763280" y="4005000"/>
                <a:ext cx="8280" cy="144756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19 Grup"/>
          <p:cNvGrpSpPr/>
          <p:nvPr/>
        </p:nvGrpSpPr>
        <p:grpSpPr>
          <a:xfrm>
            <a:off x="5651280" y="4076640"/>
            <a:ext cx="2089440" cy="1449360"/>
            <a:chOff x="5651280" y="4076640"/>
            <a:chExt cx="2089440" cy="1449360"/>
          </a:xfrm>
        </p:grpSpPr>
        <p:sp>
          <p:nvSpPr>
            <p:cNvPr id="130" name="20 Düz Bağlayıcı"/>
            <p:cNvSpPr/>
            <p:nvPr/>
          </p:nvSpPr>
          <p:spPr>
            <a:xfrm>
              <a:off x="5651640" y="5517720"/>
              <a:ext cx="20890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14 Grup"/>
            <p:cNvGrpSpPr/>
            <p:nvPr/>
          </p:nvGrpSpPr>
          <p:grpSpPr>
            <a:xfrm>
              <a:off x="5651280" y="4076640"/>
              <a:ext cx="945000" cy="1449360"/>
              <a:chOff x="5651280" y="4076640"/>
              <a:chExt cx="945000" cy="1449360"/>
            </a:xfrm>
          </p:grpSpPr>
          <p:sp>
            <p:nvSpPr>
              <p:cNvPr id="132" name="22 Düz Bağlayıcı"/>
              <p:cNvSpPr/>
              <p:nvPr/>
            </p:nvSpPr>
            <p:spPr>
              <a:xfrm flipH="1" flipV="1">
                <a:off x="5651280" y="4076640"/>
                <a:ext cx="8280" cy="144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23 Düz Bağlayıcı"/>
              <p:cNvSpPr/>
              <p:nvPr/>
            </p:nvSpPr>
            <p:spPr>
              <a:xfrm flipH="1" flipV="1">
                <a:off x="6588000" y="4076640"/>
                <a:ext cx="8280" cy="144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24 Metin kutusu"/>
          <p:cNvSpPr/>
          <p:nvPr/>
        </p:nvSpPr>
        <p:spPr>
          <a:xfrm>
            <a:off x="1403280" y="5516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10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5 Metin kutusu"/>
          <p:cNvSpPr/>
          <p:nvPr/>
        </p:nvSpPr>
        <p:spPr>
          <a:xfrm>
            <a:off x="6227640" y="5589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10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26 Serbest Form"/>
          <p:cNvSpPr/>
          <p:nvPr/>
        </p:nvSpPr>
        <p:spPr>
          <a:xfrm>
            <a:off x="1557360" y="4187880"/>
            <a:ext cx="493560" cy="1260360"/>
          </a:xfrm>
          <a:custGeom>
            <a:avLst/>
            <a:gdLst/>
            <a:ahLst/>
            <a:rect l="l" t="t" r="r" b="b"/>
            <a:pathLst>
              <a:path w="494522" h="1261188">
                <a:moveTo>
                  <a:pt x="0" y="1251857"/>
                </a:moveTo>
                <a:cubicBezTo>
                  <a:pt x="70757" y="625928"/>
                  <a:pt x="141515" y="0"/>
                  <a:pt x="223935" y="1555"/>
                </a:cubicBezTo>
                <a:cubicBezTo>
                  <a:pt x="306355" y="3110"/>
                  <a:pt x="494522" y="1261188"/>
                  <a:pt x="494522" y="1261188"/>
                </a:cubicBezTo>
                <a:lnTo>
                  <a:pt x="494522" y="1261188"/>
                </a:ln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27 Serbest Form"/>
          <p:cNvSpPr/>
          <p:nvPr/>
        </p:nvSpPr>
        <p:spPr>
          <a:xfrm>
            <a:off x="5796000" y="4543560"/>
            <a:ext cx="1800360" cy="973080"/>
          </a:xfrm>
          <a:custGeom>
            <a:avLst/>
            <a:gdLst/>
            <a:ahLst/>
            <a:rect l="l" t="t" r="r" b="b"/>
            <a:pathLst>
              <a:path w="494522" h="1261188">
                <a:moveTo>
                  <a:pt x="0" y="1251857"/>
                </a:moveTo>
                <a:cubicBezTo>
                  <a:pt x="70757" y="625928"/>
                  <a:pt x="141515" y="0"/>
                  <a:pt x="223935" y="1555"/>
                </a:cubicBezTo>
                <a:cubicBezTo>
                  <a:pt x="306355" y="3110"/>
                  <a:pt x="494522" y="1261188"/>
                  <a:pt x="494522" y="1261188"/>
                </a:cubicBezTo>
                <a:lnTo>
                  <a:pt x="494522" y="1261188"/>
                </a:ln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8 Metin kutusu"/>
          <p:cNvSpPr/>
          <p:nvPr/>
        </p:nvSpPr>
        <p:spPr>
          <a:xfrm>
            <a:off x="611280" y="61657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Varyans küçü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29 Metin kutusu"/>
          <p:cNvSpPr/>
          <p:nvPr/>
        </p:nvSpPr>
        <p:spPr>
          <a:xfrm>
            <a:off x="5364000" y="6237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Varyans büyü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3551400" cy="2521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5219640" y="907920"/>
            <a:ext cx="320688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1280" y="1052640"/>
          <a:ext cx="7772400" cy="5287680"/>
        </p:xfrm>
        <a:graphic>
          <a:graphicData uri="http://schemas.openxmlformats.org/drawingml/2006/table">
            <a:tbl>
              <a:tblPr/>
              <a:tblGrid>
                <a:gridCol w="838080"/>
                <a:gridCol w="1219320"/>
                <a:gridCol w="1752480"/>
                <a:gridCol w="1981080"/>
                <a:gridCol w="1981440"/>
              </a:tblGrid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43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72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8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8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9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6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14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8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-86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6257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3" name="Object 88"/>
              <p:cNvSpPr txBox="1"/>
              <p:nvPr/>
            </p:nvSpPr>
            <p:spPr>
              <a:xfrm>
                <a:off x="2948040" y="1041480"/>
                <a:ext cx="11602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89"/>
              <p:cNvSpPr txBox="1"/>
              <p:nvPr/>
            </p:nvSpPr>
            <p:spPr>
              <a:xfrm>
                <a:off x="4932360" y="1011240"/>
                <a:ext cx="10796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90"/>
              <p:cNvSpPr txBox="1"/>
              <p:nvPr/>
            </p:nvSpPr>
            <p:spPr>
              <a:xfrm>
                <a:off x="6877080" y="1038240"/>
                <a:ext cx="1224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24332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3"/>
              <p:cNvSpPr txBox="1"/>
              <p:nvPr/>
            </p:nvSpPr>
            <p:spPr>
              <a:xfrm>
                <a:off x="2406600" y="600120"/>
                <a:ext cx="15890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4343400" y="533520"/>
                <a:ext cx="36432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5"/>
          <p:cNvSpPr/>
          <p:nvPr/>
        </p:nvSpPr>
        <p:spPr>
          <a:xfrm>
            <a:off x="380880" y="304920"/>
            <a:ext cx="8458200" cy="15721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993300"/>
                </a:solidFill>
                <a:latin typeface="Times New Roman"/>
              </a:rPr>
              <a:t>Ortala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80880" y="2057400"/>
            <a:ext cx="8458200" cy="15721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993300"/>
                </a:solidFill>
                <a:latin typeface="Times New Roman"/>
              </a:rPr>
              <a:t>Mod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      40 – 50   =&gt;  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45 cm</a:t>
            </a:r>
            <a:r>
              <a:rPr b="0" lang="tr-TR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 (frekans tablosund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7d"/>
                </a:solidFill>
                <a:latin typeface="Times New Roman"/>
              </a:rPr>
              <a:t>Bir seride birden fazla</a:t>
            </a:r>
            <a:r>
              <a:rPr b="0" i="1" lang="tr-TR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i="1" lang="tr-TR" sz="2400" spc="-1" strike="noStrike">
                <a:solidFill>
                  <a:srgbClr val="993300"/>
                </a:solidFill>
                <a:latin typeface="Times New Roman"/>
              </a:rPr>
              <a:t>Mod</a:t>
            </a:r>
            <a:r>
              <a:rPr b="0" i="1" lang="tr-TR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i="1" lang="tr-TR" sz="2400" spc="-1" strike="noStrike">
                <a:solidFill>
                  <a:srgbClr val="00007d"/>
                </a:solidFill>
                <a:latin typeface="Times New Roman"/>
              </a:rPr>
              <a:t>bulunabi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304920" y="3886200"/>
            <a:ext cx="8534160" cy="26845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993300"/>
                </a:solidFill>
                <a:latin typeface="Times New Roman"/>
              </a:rPr>
              <a:t>Medyan (Ortanca) 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45  cm</a:t>
            </a:r>
            <a:r>
              <a:rPr b="1" lang="tr-TR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(sıralı serinin ortasındaki değ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7d"/>
                </a:solidFill>
                <a:latin typeface="Times New Roman"/>
              </a:rPr>
              <a:t>Serideki eleman sayısı çiftse ortadaki iki değerin ortalam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7d"/>
                </a:solidFill>
                <a:latin typeface="Times New Roman"/>
              </a:rPr>
              <a:t>Serideki eleman sayısı tekse tam ortadaki değ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380880" y="380880"/>
            <a:ext cx="8534520" cy="32407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993300"/>
                </a:solidFill>
                <a:latin typeface="Times New Roman"/>
              </a:rPr>
              <a:t>Vary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3"/>
              <p:cNvSpPr txBox="1"/>
              <p:nvPr/>
            </p:nvSpPr>
            <p:spPr>
              <a:xfrm>
                <a:off x="3200400" y="533520"/>
                <a:ext cx="38926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4648320" y="1981080"/>
                <a:ext cx="411480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89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Text Box 5"/>
          <p:cNvSpPr/>
          <p:nvPr/>
        </p:nvSpPr>
        <p:spPr>
          <a:xfrm>
            <a:off x="179280" y="3886200"/>
            <a:ext cx="8736120" cy="10159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993300"/>
                </a:solidFill>
                <a:latin typeface="Times New Roman"/>
              </a:rPr>
              <a:t>Standart Sap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2987640" y="4076640"/>
                <a:ext cx="28368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7"/>
              <p:cNvSpPr txBox="1"/>
              <p:nvPr/>
            </p:nvSpPr>
            <p:spPr>
              <a:xfrm>
                <a:off x="6012000" y="4221000"/>
                <a:ext cx="27622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8"/>
              <p:cNvSpPr txBox="1"/>
              <p:nvPr/>
            </p:nvSpPr>
            <p:spPr>
              <a:xfrm>
                <a:off x="3995640" y="5229360"/>
                <a:ext cx="15843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Text Box 9"/>
          <p:cNvSpPr/>
          <p:nvPr/>
        </p:nvSpPr>
        <p:spPr>
          <a:xfrm>
            <a:off x="179280" y="5105520"/>
            <a:ext cx="8812440" cy="15721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993300"/>
                </a:solidFill>
                <a:latin typeface="Times New Roman"/>
              </a:rPr>
              <a:t>Varyasyon Katsayı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993300"/>
                </a:solidFill>
                <a:latin typeface="Times New Roman"/>
              </a:rPr>
              <a:t>(Değişim Katsayıs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10"/>
              <p:cNvSpPr txBox="1"/>
              <p:nvPr/>
            </p:nvSpPr>
            <p:spPr>
              <a:xfrm>
                <a:off x="5943600" y="5334120"/>
                <a:ext cx="23590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1" name="Group 20"/>
          <p:cNvGrpSpPr/>
          <p:nvPr/>
        </p:nvGrpSpPr>
        <p:grpSpPr>
          <a:xfrm>
            <a:off x="684360" y="907920"/>
            <a:ext cx="2887560" cy="2160720"/>
            <a:chOff x="684360" y="907920"/>
            <a:chExt cx="2887560" cy="2160720"/>
          </a:xfrm>
        </p:grpSpPr>
        <p:sp>
          <p:nvSpPr>
            <p:cNvPr id="162" name="Line 12"/>
            <p:cNvSpPr/>
            <p:nvPr/>
          </p:nvSpPr>
          <p:spPr>
            <a:xfrm>
              <a:off x="684360" y="1123920"/>
              <a:ext cx="0" cy="194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3"/>
            <p:cNvSpPr/>
            <p:nvPr/>
          </p:nvSpPr>
          <p:spPr>
            <a:xfrm>
              <a:off x="684360" y="3068640"/>
              <a:ext cx="271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771840" y="1785960"/>
              <a:ext cx="2189160" cy="1028520"/>
            </a:xfrm>
            <a:custGeom>
              <a:avLst/>
              <a:gdLst>
                <a:gd name="textAreaLeft" fmla="*/ 0 w 2189160"/>
                <a:gd name="textAreaRight" fmla="*/ 2189520 w 218916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1200" h="584">
                  <a:moveTo>
                    <a:pt x="0" y="584"/>
                  </a:moveTo>
                  <a:cubicBezTo>
                    <a:pt x="140" y="300"/>
                    <a:pt x="280" y="16"/>
                    <a:pt x="480" y="8"/>
                  </a:cubicBezTo>
                  <a:cubicBezTo>
                    <a:pt x="680" y="0"/>
                    <a:pt x="940" y="268"/>
                    <a:pt x="1200" y="536"/>
                  </a:cubicBezTo>
                </a:path>
              </a:pathLst>
            </a:custGeom>
            <a:noFill/>
            <a:ln w="349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5"/>
            <p:cNvSpPr/>
            <p:nvPr/>
          </p:nvSpPr>
          <p:spPr>
            <a:xfrm>
              <a:off x="1621080" y="907920"/>
              <a:ext cx="27000" cy="20764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6"/>
            <p:cNvSpPr/>
            <p:nvPr/>
          </p:nvSpPr>
          <p:spPr>
            <a:xfrm>
              <a:off x="1908360" y="1268280"/>
              <a:ext cx="1663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tr-TR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tr-TR" sz="2400" spc="-1" strike="noStrike">
                  <a:solidFill>
                    <a:srgbClr val="000000"/>
                  </a:solidFill>
                  <a:latin typeface="Times New Roman"/>
                </a:rPr>
                <a:t>²  &gt; s</a:t>
              </a:r>
              <a:r>
                <a:rPr b="0" lang="tr-T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tr-TR" sz="2400" spc="-1" strike="noStrike">
                  <a:solidFill>
                    <a:srgbClr val="000000"/>
                  </a:solidFill>
                  <a:latin typeface="Times New Roman"/>
                </a:rPr>
                <a:t>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1209960" y="1631880"/>
              <a:ext cx="787320" cy="118260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432" h="672">
                  <a:moveTo>
                    <a:pt x="0" y="672"/>
                  </a:moveTo>
                  <a:cubicBezTo>
                    <a:pt x="84" y="336"/>
                    <a:pt x="168" y="0"/>
                    <a:pt x="240" y="0"/>
                  </a:cubicBezTo>
                  <a:cubicBezTo>
                    <a:pt x="312" y="0"/>
                    <a:pt x="372" y="336"/>
                    <a:pt x="432" y="672"/>
                  </a:cubicBezTo>
                </a:path>
              </a:pathLst>
            </a:custGeom>
            <a:noFill/>
            <a:ln w="34920">
              <a:solidFill>
                <a:srgbClr val="0000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8"/>
            <p:cNvSpPr/>
            <p:nvPr/>
          </p:nvSpPr>
          <p:spPr>
            <a:xfrm>
              <a:off x="2698920" y="2138400"/>
              <a:ext cx="6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9"/>
            <p:cNvSpPr/>
            <p:nvPr/>
          </p:nvSpPr>
          <p:spPr>
            <a:xfrm>
              <a:off x="1997280" y="2308320"/>
              <a:ext cx="61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07:32:18Z</dcterms:created>
  <dc:creator>DATRON AERO KN1</dc:creator>
  <dc:description/>
  <dc:language>en-US</dc:language>
  <cp:lastModifiedBy>kare</cp:lastModifiedBy>
  <dcterms:modified xsi:type="dcterms:W3CDTF">2010-10-05T10:27:23Z</dcterms:modified>
  <cp:revision>9</cp:revision>
  <dc:subject/>
  <dc:title>Mühendislikte İstatistik Metotlar</dc:title>
</cp:coreProperties>
</file>