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23.wmf" ContentType="image/x-wmf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wmf" ContentType="image/x-wmf"/>
  <Override PartName="/ppt/media/image13.jpeg" ContentType="image/jpeg"/>
  <Override PartName="/ppt/media/image4.png" ContentType="image/png"/>
  <Override PartName="/ppt/media/image24.wmf" ContentType="image/x-wmf"/>
  <Override PartName="/ppt/media/image22.wmf" ContentType="image/x-wmf"/>
  <Override PartName="/ppt/media/image19.png" ContentType="image/png"/>
  <Override PartName="/ppt/media/image3.jpeg" ContentType="image/jpeg"/>
  <Override PartName="/ppt/media/image1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5.wmf" ContentType="image/x-wmf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DC27A-C84E-49DA-9787-864A6777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1E5E3-A618-4FA8-ADFF-96419B75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CD941-269D-481B-9C7A-65AF54BC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A6B74-260B-4D21-8FEE-CAA4AA55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E5EC-AA8A-4477-9B20-49DE7CC9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DB10-8235-4456-A9F3-914767F9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4AB3-8937-46BB-91EF-13311224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9DDA-6B26-4A18-B5AD-234609C2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2B5D-E096-43FC-87DC-FF05DA6B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8552-FB9E-41A6-AD94-E3D82D95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E1C2-6AFC-4D4A-A11A-88474C77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D85F7-E058-4746-82D5-C4ED5E91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8A7F-CB13-4977-B81D-E32201EF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304C-457A-4B1F-8A11-DBFF7D46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0CD0-1FC5-4816-B545-1EE56C39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A5B0-B4EA-40C0-85B4-A6BAA768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7843-4DCE-4CC7-85A9-F6823155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6E71F-E90A-417A-8BEA-4F58D71A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348CD-30D2-4861-8A3A-8CCE734B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012E0-F721-48EF-A341-DF1EBF0A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75FD2-C173-4D8C-8E39-8D7D9669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FB962-7786-434A-8B94-835D4299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530B0-9F4C-41A8-9EFB-FB222207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E9669-05A5-433F-A1BE-E3B26613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615E-A6EF-4150-987D-006B8616A4A2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F7A3-6A69-42B9-8522-2F8D89CBFB4E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Mühendislikte İstatistik Metotla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Recep YUR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Çukurova Üniverist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Mühendislik Mimarlık Fakült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İnşaat Mühendisliği Bölüm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943280" y="115920"/>
          <a:ext cx="7200720" cy="2316240"/>
        </p:xfrm>
        <a:graphic>
          <a:graphicData uri="http://schemas.openxmlformats.org/drawingml/2006/table">
            <a:tbl>
              <a:tblPr/>
              <a:tblGrid>
                <a:gridCol w="2401560"/>
                <a:gridCol w="4799160"/>
              </a:tblGrid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5'LUK YATAY DELİKLİ BLOK TUĞ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4c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tr-TR" sz="9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yutları 190x190x85 mm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talama ağırlık 2000 gr/Adettir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ınç dayanımı </a:t>
                      </a:r>
                      <a:r>
                        <a:rPr b="1" lang="tr-TR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40 kgf/cm</a:t>
                      </a:r>
                      <a:r>
                        <a:rPr b="1" lang="tr-TR" sz="1800" spc="-1" strike="noStrike" baseline="30000">
                          <a:solidFill>
                            <a:srgbClr val="990000"/>
                          </a:solidFill>
                          <a:latin typeface="Arial"/>
                        </a:rPr>
                        <a:t>2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'dir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 cm kalınlığında 1 m</a:t>
                      </a: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²</a:t>
                      </a: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uvarda 25 adet kullanılır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cm kalınlığında 1 m</a:t>
                      </a: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²</a:t>
                      </a: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uvarda 50 adet kullanılır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30" name="Picture 6" descr="yataydelikli"/>
          <p:cNvPicPr/>
          <p:nvPr/>
        </p:nvPicPr>
        <p:blipFill>
          <a:blip r:embed="rId1"/>
          <a:stretch/>
        </p:blipFill>
        <p:spPr>
          <a:xfrm>
            <a:off x="2411280" y="836640"/>
            <a:ext cx="1333800" cy="1467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6" descr="foto_cimento"/>
          <p:cNvPicPr/>
          <p:nvPr/>
        </p:nvPicPr>
        <p:blipFill>
          <a:blip r:embed="rId2"/>
          <a:stretch/>
        </p:blipFill>
        <p:spPr>
          <a:xfrm>
            <a:off x="1187280" y="3174840"/>
            <a:ext cx="543564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Benjamin Disraeli (1804-188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here are three kinds of lies (</a:t>
            </a:r>
            <a:r>
              <a:rPr b="0" lang="tr-TR" sz="3200" spc="-1" strike="noStrike">
                <a:solidFill>
                  <a:srgbClr val="00007d"/>
                </a:solidFill>
                <a:latin typeface="Arial"/>
              </a:rPr>
              <a:t>Üç tür yalan vardır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ies (</a:t>
            </a:r>
            <a:r>
              <a:rPr b="0" lang="tr-TR" sz="2800" spc="-1" strike="noStrike">
                <a:solidFill>
                  <a:srgbClr val="00007d"/>
                </a:solidFill>
                <a:latin typeface="Arial"/>
              </a:rPr>
              <a:t>Yalanl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amned Lies (</a:t>
            </a:r>
            <a:r>
              <a:rPr b="0" lang="tr-TR" sz="2800" spc="-1" strike="noStrike">
                <a:solidFill>
                  <a:srgbClr val="00007d"/>
                </a:solidFill>
                <a:latin typeface="Arial"/>
              </a:rPr>
              <a:t>Kuyruklu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7d"/>
                </a:solidFill>
                <a:latin typeface="Arial"/>
              </a:rPr>
              <a:t>Yalanl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tistics (</a:t>
            </a:r>
            <a:r>
              <a:rPr b="0" lang="tr-TR" sz="2800" spc="-1" strike="noStrike">
                <a:solidFill>
                  <a:srgbClr val="00007d"/>
                </a:solidFill>
                <a:latin typeface="Arial"/>
              </a:rPr>
              <a:t>İstatistik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Tanı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7d"/>
                </a:solidFill>
                <a:latin typeface="Arial"/>
              </a:rPr>
              <a:t>istatista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: İtalyanca devlet adam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7d"/>
                </a:solidFill>
                <a:latin typeface="Arial"/>
              </a:rPr>
              <a:t>status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: Latince dur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7d"/>
                </a:solidFill>
                <a:latin typeface="Arial"/>
              </a:rPr>
              <a:t>statizen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: Yunanca göz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7d"/>
                </a:solidFill>
                <a:latin typeface="Arial"/>
              </a:rPr>
              <a:t>stat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: İtalya’da devletin siyasal duru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7d"/>
                </a:solidFill>
                <a:latin typeface="Arial"/>
              </a:rPr>
              <a:t>statistik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: Alman bilimciler ilk olarak 18’inci yüzyılın başında devletin durumu ile ilgili sayısal bilgiler için sözcüğünü kullanmışlard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Tanı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Üzerinde çalışılan olaya ait verilerin elde edilmesi, analizi ve yorumlanması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erhangi bir olaya ait derlenmiş sayısal bilgiler de istatistik anlamında kullanılabilir. İnşaat istatistikleri, ihracat istatistikleri,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455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rcRect l="29485" t="44317" r="7938" b="0"/>
          <a:stretch/>
        </p:blipFill>
        <p:spPr>
          <a:xfrm>
            <a:off x="1763640" y="1916280"/>
            <a:ext cx="3670200" cy="25351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1763640" y="1989000"/>
            <a:ext cx="3672000" cy="2519640"/>
          </a:xfrm>
          <a:prstGeom prst="rect">
            <a:avLst/>
          </a:pr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927 -0.0338 C -0.05105 -0.03588 0.06753 -0.03773 0.13767 -0.01736 C 0.20781 0.00301 0.21736 0.04097 0.25139 0.08866 C 0.28559 0.13634 0.32239 0.22824 0.34288 0.26829 C 0.36336 0.30857 0.36857 0.31898 0.37395 0.32963 E">
                                      <p:cBhvr>
                                        <p:cTn id="133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Tanı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5013360"/>
            <a:ext cx="8496360" cy="15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ayımlar, gözlemler veya denemeler sonucu elde edilen, az sayıda eleman (</a:t>
            </a:r>
            <a:r>
              <a:rPr b="1" lang="tr-TR" sz="2000" spc="-1" strike="noStrike">
                <a:solidFill>
                  <a:srgbClr val="00007d"/>
                </a:solidFill>
                <a:latin typeface="Arial"/>
              </a:rPr>
              <a:t>Örnek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tr-TR" sz="2000" spc="-1" strike="noStrike">
                <a:solidFill>
                  <a:srgbClr val="00007d"/>
                </a:solidFill>
                <a:latin typeface="Arial"/>
              </a:rPr>
              <a:t>Örneklem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) üzerinde uygun yöntemlerle yapılan analizler sonucu bulunan değerlerle, elemanların elde edildiği bütün (</a:t>
            </a:r>
            <a:r>
              <a:rPr b="1" lang="tr-TR" sz="2000" spc="-1" strike="noStrike">
                <a:solidFill>
                  <a:srgbClr val="00007d"/>
                </a:solidFill>
                <a:latin typeface="Arial"/>
              </a:rPr>
              <a:t>Ana Kütle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tr-TR" sz="2000" spc="-1" strike="noStrike">
                <a:solidFill>
                  <a:srgbClr val="00007d"/>
                </a:solidFill>
                <a:latin typeface="Arial"/>
              </a:rPr>
              <a:t>Evren, Popülasyon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) hakkında sonuçlar ortaya koyulmasını, yorumlar ve tahminler yapılmasını sağlayan bilimd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3200400" y="2286000"/>
            <a:ext cx="2590920" cy="2438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5"/>
          <p:cNvSpPr/>
          <p:nvPr/>
        </p:nvSpPr>
        <p:spPr>
          <a:xfrm>
            <a:off x="4643280" y="3429000"/>
            <a:ext cx="76680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6218280" y="2192400"/>
            <a:ext cx="1630440" cy="609480"/>
          </a:xfr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N = 2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6324480" y="3352680"/>
            <a:ext cx="1630440" cy="609840"/>
          </a:xfr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n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179280" y="1628640"/>
            <a:ext cx="2876760" cy="1440000"/>
          </a:xfrm>
          <a:prstGeom prst="wedgeEllipseCallout">
            <a:avLst>
              <a:gd name="adj1" fmla="val 70087"/>
              <a:gd name="adj2" fmla="val 386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7d"/>
                </a:solidFill>
                <a:latin typeface="Times New Roman"/>
              </a:rPr>
              <a:t>Ana Küt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7d"/>
                </a:solidFill>
                <a:latin typeface="Times New Roman"/>
              </a:rPr>
              <a:t>Evr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7d"/>
                </a:solidFill>
                <a:latin typeface="Times New Roman"/>
              </a:rPr>
              <a:t>Popülasy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179280" y="3357720"/>
            <a:ext cx="2797200" cy="1143000"/>
          </a:xfrm>
          <a:prstGeom prst="wedgeEllipseCallout">
            <a:avLst>
              <a:gd name="adj1" fmla="val 115152"/>
              <a:gd name="adj2" fmla="val 20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7d"/>
                </a:solidFill>
                <a:latin typeface="Times New Roman"/>
              </a:rPr>
              <a:t>Örnek Küt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7d"/>
                </a:solidFill>
                <a:latin typeface="Times New Roman"/>
              </a:rPr>
              <a:t>Örnek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4552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rcRect l="29485" t="44317" r="7938" b="0"/>
          <a:stretch/>
        </p:blipFill>
        <p:spPr>
          <a:xfrm>
            <a:off x="5148360" y="4005360"/>
            <a:ext cx="3670200" cy="253512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5"/>
          <p:cNvSpPr/>
          <p:nvPr/>
        </p:nvSpPr>
        <p:spPr>
          <a:xfrm>
            <a:off x="5076720" y="333360"/>
            <a:ext cx="3816360" cy="1511280"/>
          </a:xfrm>
          <a:prstGeom prst="cloudCallout">
            <a:avLst>
              <a:gd name="adj1" fmla="val -93384"/>
              <a:gd name="adj2" fmla="val 475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na Kü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v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Popülas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5300640"/>
            <a:ext cx="3816360" cy="865080"/>
          </a:xfrm>
          <a:prstGeom prst="cloudCallout">
            <a:avLst>
              <a:gd name="adj1" fmla="val 102745"/>
              <a:gd name="adj2" fmla="val -44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Örnek Kü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Örnek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Yöntem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anımlayıcı (Descrip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Açıklayıcı (Explana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Tanım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96472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ığın olayların analiz edilebilmeleri için </a:t>
            </a:r>
            <a:r>
              <a:rPr b="1" i="1" lang="tr-TR" sz="2800" spc="-1" strike="noStrike">
                <a:solidFill>
                  <a:srgbClr val="00007d"/>
                </a:solidFill>
                <a:latin typeface="Arial"/>
              </a:rPr>
              <a:t>özelliklerinin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tr-TR" sz="2800" spc="-1" strike="noStrike">
                <a:solidFill>
                  <a:srgbClr val="00007d"/>
                </a:solidFill>
                <a:latin typeface="Arial"/>
              </a:rPr>
              <a:t>vasıflarının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) belirlenip sayılması, gözlenmesi veya ölçülmesi gerek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lk bilgilerin toplanması anlamında bu aşamaya </a:t>
            </a:r>
            <a:r>
              <a:rPr b="1" lang="tr-TR" sz="2800" spc="-1" strike="noStrike">
                <a:solidFill>
                  <a:srgbClr val="00007d"/>
                </a:solidFill>
                <a:latin typeface="Arial"/>
              </a:rPr>
              <a:t>rölöve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tr-TR" sz="2800" spc="-1" strike="noStrike">
                <a:solidFill>
                  <a:srgbClr val="00007d"/>
                </a:solidFill>
                <a:latin typeface="Arial"/>
              </a:rPr>
              <a:t>derleme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) den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7d"/>
                </a:solidFill>
                <a:latin typeface="Arial"/>
              </a:rPr>
              <a:t>genel rölöve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: bütün değişkenlerin gözlemlenme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7d"/>
                </a:solidFill>
                <a:latin typeface="Arial"/>
              </a:rPr>
              <a:t>kısmi rölöve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: değişkenler arasından yalnızca bir bölümünün seçilip gözlemlenme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Rölö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ısmi rölevede seçim tür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esadüfi seç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radi seçim (biler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ota yönt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onografi yönt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Referans Kitap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7854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Türkç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Mühendisler için İstatistik, Mehmetçik Bayazıt, Beyhan Oğuz, Birsen Yayıne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Mühendislikte İstatistik Metodlar, Erdem KOÇ,ÇÜ, Müh.Mim.Fak. Yayını, Yayın No: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İstatistik, Schaum’s Outline Series, McGraw 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nadolu Üniversitesi, Açık Öğretim Fakültesi, İstatistik Kitapları ve TV yayınlar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İngilizce: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(Merkezi kütüphanede bulunabilecek eser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Probability And Statistics In Engineering And Management Science ,William W. Hines, Newyork,199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Probability, Statistics And Decision For Civil Engineers, Jack  R.Benjamin, 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Probability And Its Engineering Uses, Thernton, 19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ntroduction To Probability Theory And Statistical Inference, 19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n Introduction To Probability Theory And Its Applications, Wiliam Feller, 19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Tanım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7d"/>
                </a:solidFill>
                <a:latin typeface="Arial"/>
              </a:rPr>
              <a:t>Değişkenler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r-TR" sz="2800" spc="-1" strike="noStrike">
                <a:solidFill>
                  <a:srgbClr val="00007d"/>
                </a:solidFill>
                <a:latin typeface="Arial"/>
              </a:rPr>
              <a:t>Birimle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tr-TR" sz="2800" spc="-1" strike="noStrike">
                <a:solidFill>
                  <a:srgbClr val="00007d"/>
                </a:solidFill>
                <a:latin typeface="Arial"/>
              </a:rPr>
              <a:t>Variates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) : İstatistik kütlesini(yığınını) oluşturan ve sayısal olarak incelenebilen olayların her birine birim adı veri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ütün canlı ve cansız varlıklar ile sosyal kurumlar ve olaylar birer değişkendir (birimdi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eğişkenler önceden ne olacağı kesin olarak tahmin edilemeyen rastgele karakterdedirl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u nedenle </a:t>
            </a:r>
            <a:r>
              <a:rPr b="1" lang="tr-TR" sz="2800" spc="-1" strike="noStrike" u="sng">
                <a:solidFill>
                  <a:srgbClr val="00007d"/>
                </a:solidFill>
                <a:uFillTx/>
                <a:latin typeface="Arial"/>
              </a:rPr>
              <a:t>rastgele değişken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olarak adlandırılır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Değiş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esikli Değişken (Süreksiz değişk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0" y="2795760"/>
          <a:ext cx="8820000" cy="38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95760"/>
                    <a:ext cx="8820000" cy="3879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Değiş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esikli Değişken (Süreksiz değişk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0" y="2795760"/>
          <a:ext cx="8820000" cy="38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95760"/>
                    <a:ext cx="8820000" cy="3879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Değiş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ürekli değiş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7"/>
          <p:cNvGraphicFramePr/>
          <p:nvPr/>
        </p:nvGraphicFramePr>
        <p:xfrm>
          <a:off x="324000" y="2565360"/>
          <a:ext cx="8135640" cy="41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565360"/>
                    <a:ext cx="8135640" cy="412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Seri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Rölöve sonucu elde edilen ve büyük bir yığın oluşturan bilgilerin, amaca uygun olarak ve özelliklerini de dikkate alarak sıralanması ile elde edilen rakamlar dizisine </a:t>
            </a:r>
            <a:r>
              <a:rPr b="0" lang="tr-TR" sz="3200" spc="-1" strike="noStrike" u="sng">
                <a:solidFill>
                  <a:srgbClr val="00007d"/>
                </a:solidFill>
                <a:uFillTx/>
                <a:latin typeface="Arial"/>
              </a:rPr>
              <a:t>istatistik seri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den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Zaman seri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kan seri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Dağılma seri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En küçük değer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En büyük değer = 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0" y="549360"/>
          <a:ext cx="4183200" cy="5908680"/>
        </p:xfrm>
        <a:graphic>
          <a:graphicData uri="http://schemas.openxmlformats.org/drawingml/2006/table">
            <a:tbl>
              <a:tblPr/>
              <a:tblGrid>
                <a:gridCol w="1568520"/>
                <a:gridCol w="2614680"/>
              </a:tblGrid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ğış (c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rekans Tablo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1981080"/>
          <a:ext cx="2386080" cy="4359240"/>
        </p:xfrm>
        <a:graphic>
          <a:graphicData uri="http://schemas.openxmlformats.org/drawingml/2006/table">
            <a:tbl>
              <a:tblPr/>
              <a:tblGrid>
                <a:gridCol w="2386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ğış (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648320" y="1981080"/>
          <a:ext cx="4038480" cy="3886200"/>
        </p:xfrm>
        <a:graphic>
          <a:graphicData uri="http://schemas.openxmlformats.org/drawingml/2006/table">
            <a:tbl>
              <a:tblPr/>
              <a:tblGrid>
                <a:gridCol w="2100240"/>
                <a:gridCol w="193824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ğış (c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k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rekans Tablo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50920" y="1413000"/>
          <a:ext cx="1981080" cy="502920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ğış (c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666880" y="1676520"/>
          <a:ext cx="2743200" cy="34830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ını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k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– 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– 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– 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l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791320" y="1676520"/>
          <a:ext cx="2743200" cy="34830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ını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k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– 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– 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l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rekans Tablo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900000" y="1557360"/>
          <a:ext cx="1981440" cy="5029200"/>
        </p:xfrm>
        <a:graphic>
          <a:graphicData uri="http://schemas.openxmlformats.org/drawingml/2006/table">
            <a:tbl>
              <a:tblPr/>
              <a:tblGrid>
                <a:gridCol w="198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ğış (c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932360" y="1341360"/>
          <a:ext cx="2743200" cy="52214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ını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k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– 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– 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– 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– 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– 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- 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l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rekans Tablo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04920" y="990720"/>
          <a:ext cx="1981080" cy="502920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ğış (c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2666880" y="1676520"/>
          <a:ext cx="4724640" cy="34830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98144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ını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k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frek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– 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– 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– 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l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AutoShape 59"/>
          <p:cNvSpPr/>
          <p:nvPr/>
        </p:nvSpPr>
        <p:spPr>
          <a:xfrm>
            <a:off x="7162920" y="2438280"/>
            <a:ext cx="1828800" cy="703440"/>
          </a:xfrm>
          <a:prstGeom prst="wedgeRoundRectCallout">
            <a:avLst>
              <a:gd name="adj1" fmla="val -76129"/>
              <a:gd name="adj2" fmla="val -2990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(2/10)*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0"/>
          <p:cNvSpPr/>
          <p:nvPr/>
        </p:nvSpPr>
        <p:spPr>
          <a:xfrm>
            <a:off x="7162920" y="4191120"/>
            <a:ext cx="1828800" cy="606240"/>
          </a:xfrm>
          <a:prstGeom prst="wedgeRoundRectCallout">
            <a:avLst>
              <a:gd name="adj1" fmla="val -76129"/>
              <a:gd name="adj2" fmla="val -12251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(3/10)*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İçer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statistiğin Tanımı, Gelişimi ve Ön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emel Kavramlar ve Tanım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Olasılık ve Dağılım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rekans Analizi ve Parametrelerin Tahm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Olasılık Dağılım Fonksiyon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rnekleme Dağılımlar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statistik Hipotezlerin Kontrol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aryans Anali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Regresyon Anali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rekans Tablo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79280" y="1413000"/>
          <a:ext cx="1981440" cy="5029200"/>
        </p:xfrm>
        <a:graphic>
          <a:graphicData uri="http://schemas.openxmlformats.org/drawingml/2006/table">
            <a:tbl>
              <a:tblPr/>
              <a:tblGrid>
                <a:gridCol w="198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ğış (c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2666880" y="1676520"/>
          <a:ext cx="4724640" cy="4163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98144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ını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k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rikimli frek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.. den az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–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–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–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l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AutoShape 59"/>
          <p:cNvSpPr/>
          <p:nvPr/>
        </p:nvSpPr>
        <p:spPr>
          <a:xfrm>
            <a:off x="7596360" y="4419720"/>
            <a:ext cx="1152360" cy="522000"/>
          </a:xfrm>
          <a:prstGeom prst="wedgeRoundRectCallout">
            <a:avLst>
              <a:gd name="adj1" fmla="val -135124"/>
              <a:gd name="adj2" fmla="val -5699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6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60"/>
          <p:cNvSpPr/>
          <p:nvPr/>
        </p:nvSpPr>
        <p:spPr>
          <a:xfrm>
            <a:off x="7596360" y="3213000"/>
            <a:ext cx="936360" cy="503280"/>
          </a:xfrm>
          <a:prstGeom prst="wedgeRoundRectCallout">
            <a:avLst>
              <a:gd name="adj1" fmla="val -146439"/>
              <a:gd name="adj2" fmla="val 43375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2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1"/>
          <p:cNvSpPr/>
          <p:nvPr/>
        </p:nvSpPr>
        <p:spPr>
          <a:xfrm>
            <a:off x="5791320" y="327672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rekans Tablo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0920" y="1557360"/>
          <a:ext cx="1981080" cy="502920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ğış (c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666880" y="1676520"/>
          <a:ext cx="5029200" cy="4163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228600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ını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k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rikimli frek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.. den fazl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l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AutoShape 59"/>
          <p:cNvSpPr/>
          <p:nvPr/>
        </p:nvSpPr>
        <p:spPr>
          <a:xfrm>
            <a:off x="8101080" y="4005360"/>
            <a:ext cx="863640" cy="503280"/>
          </a:xfrm>
          <a:prstGeom prst="wedgeRoundRectCallout">
            <a:avLst>
              <a:gd name="adj1" fmla="val -205328"/>
              <a:gd name="adj2" fmla="val -77129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4 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0"/>
          <p:cNvSpPr/>
          <p:nvPr/>
        </p:nvSpPr>
        <p:spPr>
          <a:xfrm>
            <a:off x="7956720" y="2997360"/>
            <a:ext cx="934920" cy="512640"/>
          </a:xfrm>
          <a:prstGeom prst="wedgeRoundRectCallout">
            <a:avLst>
              <a:gd name="adj1" fmla="val -170884"/>
              <a:gd name="adj2" fmla="val -1161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8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1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2"/>
          <p:cNvSpPr/>
          <p:nvPr/>
        </p:nvSpPr>
        <p:spPr>
          <a:xfrm>
            <a:off x="6588000" y="333360"/>
            <a:ext cx="2087640" cy="961920"/>
          </a:xfrm>
          <a:prstGeom prst="wedgeEllipseCallout">
            <a:avLst>
              <a:gd name="adj1" fmla="val -37606"/>
              <a:gd name="adj2" fmla="val 98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Kümüla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frek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72"/>
          <p:cNvGrpSpPr/>
          <p:nvPr/>
        </p:nvGrpSpPr>
        <p:grpSpPr>
          <a:xfrm>
            <a:off x="5148000" y="3213000"/>
            <a:ext cx="1152360" cy="1079640"/>
            <a:chOff x="5148000" y="3213000"/>
            <a:chExt cx="1152360" cy="1079640"/>
          </a:xfrm>
        </p:grpSpPr>
        <p:grpSp>
          <p:nvGrpSpPr>
            <p:cNvPr id="206" name="Group 70"/>
            <p:cNvGrpSpPr/>
            <p:nvPr/>
          </p:nvGrpSpPr>
          <p:grpSpPr>
            <a:xfrm>
              <a:off x="5148000" y="3789360"/>
              <a:ext cx="936360" cy="503280"/>
              <a:chOff x="5148000" y="3789360"/>
              <a:chExt cx="936360" cy="503280"/>
            </a:xfrm>
          </p:grpSpPr>
          <p:sp>
            <p:nvSpPr>
              <p:cNvPr id="207" name="Line 66"/>
              <p:cNvSpPr/>
              <p:nvPr/>
            </p:nvSpPr>
            <p:spPr>
              <a:xfrm flipH="1" flipV="1">
                <a:off x="5148000" y="3860640"/>
                <a:ext cx="93636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67"/>
              <p:cNvSpPr/>
              <p:nvPr/>
            </p:nvSpPr>
            <p:spPr>
              <a:xfrm>
                <a:off x="5219640" y="3789360"/>
                <a:ext cx="7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71"/>
            <p:cNvGrpSpPr/>
            <p:nvPr/>
          </p:nvGrpSpPr>
          <p:grpSpPr>
            <a:xfrm>
              <a:off x="5148000" y="3213000"/>
              <a:ext cx="1152360" cy="431640"/>
              <a:chOff x="5148000" y="3213000"/>
              <a:chExt cx="1152360" cy="431640"/>
            </a:xfrm>
          </p:grpSpPr>
          <p:sp>
            <p:nvSpPr>
              <p:cNvPr id="210" name="Line 68"/>
              <p:cNvSpPr/>
              <p:nvPr/>
            </p:nvSpPr>
            <p:spPr>
              <a:xfrm flipH="1" flipV="1">
                <a:off x="5148000" y="3284280"/>
                <a:ext cx="115236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69"/>
              <p:cNvSpPr/>
              <p:nvPr/>
            </p:nvSpPr>
            <p:spPr>
              <a:xfrm>
                <a:off x="5219640" y="3213000"/>
                <a:ext cx="9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rekans Tablo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600200"/>
          <a:ext cx="8534160" cy="41641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828800"/>
                <a:gridCol w="1828800"/>
                <a:gridCol w="213336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ını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k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frek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rikimli frek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.. den az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Birikimli frek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.. den az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– 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– 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– 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opl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rekans Tablo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666880" y="1676520"/>
          <a:ext cx="4419720" cy="4236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67652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ını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k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ını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ktalar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– 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– 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– 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l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Freeform 33"/>
          <p:cNvSpPr/>
          <p:nvPr/>
        </p:nvSpPr>
        <p:spPr>
          <a:xfrm>
            <a:off x="3352680" y="3035160"/>
            <a:ext cx="2514600" cy="3938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1584" h="248">
                <a:moveTo>
                  <a:pt x="0" y="200"/>
                </a:moveTo>
                <a:cubicBezTo>
                  <a:pt x="276" y="100"/>
                  <a:pt x="552" y="0"/>
                  <a:pt x="816" y="8"/>
                </a:cubicBezTo>
                <a:cubicBezTo>
                  <a:pt x="1080" y="16"/>
                  <a:pt x="1332" y="132"/>
                  <a:pt x="1584" y="2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rekans Tablo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80880" y="1600200"/>
          <a:ext cx="2743200" cy="34830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ını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k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– 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– 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– 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l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Object 26"/>
          <p:cNvGraphicFramePr/>
          <p:nvPr/>
        </p:nvGraphicFramePr>
        <p:xfrm>
          <a:off x="3492360" y="1125360"/>
          <a:ext cx="5472360" cy="38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125360"/>
                    <a:ext cx="547236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AutoShape 27"/>
          <p:cNvSpPr/>
          <p:nvPr/>
        </p:nvSpPr>
        <p:spPr>
          <a:xfrm>
            <a:off x="6400800" y="5516640"/>
            <a:ext cx="2743200" cy="1170000"/>
          </a:xfrm>
          <a:prstGeom prst="wedgeEllipseCallout">
            <a:avLst>
              <a:gd name="adj1" fmla="val -31189"/>
              <a:gd name="adj2" fmla="val -22842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Frekans histogram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28"/>
          <p:cNvSpPr/>
          <p:nvPr/>
        </p:nvSpPr>
        <p:spPr>
          <a:xfrm>
            <a:off x="4932360" y="1700280"/>
            <a:ext cx="3384720" cy="1873080"/>
          </a:xfrm>
          <a:custGeom>
            <a:avLst/>
            <a:gdLst>
              <a:gd name="textAreaLeft" fmla="*/ 0 w 3384720"/>
              <a:gd name="textAreaRight" fmla="*/ 3385080 w 3384720"/>
              <a:gd name="textAreaTop" fmla="*/ 0 h 1873080"/>
              <a:gd name="textAreaBottom" fmla="*/ 1873440 h 1873080"/>
            </a:gdLst>
            <a:ahLst/>
            <a:rect l="textAreaLeft" t="textAreaTop" r="textAreaRight" b="textAreaBottom"/>
            <a:pathLst>
              <a:path w="1671" h="917">
                <a:moveTo>
                  <a:pt x="0" y="598"/>
                </a:moveTo>
                <a:lnTo>
                  <a:pt x="563" y="0"/>
                </a:lnTo>
                <a:lnTo>
                  <a:pt x="1139" y="332"/>
                </a:lnTo>
                <a:lnTo>
                  <a:pt x="1671" y="917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9"/>
          <p:cNvSpPr/>
          <p:nvPr/>
        </p:nvSpPr>
        <p:spPr>
          <a:xfrm>
            <a:off x="2268360" y="5373720"/>
            <a:ext cx="2743200" cy="1238040"/>
          </a:xfrm>
          <a:prstGeom prst="wedgeEllipseCallout">
            <a:avLst>
              <a:gd name="adj1" fmla="val 58509"/>
              <a:gd name="adj2" fmla="val -277819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Frekans polig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rekans Histogram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76320" y="1371600"/>
          <a:ext cx="2743200" cy="52214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ını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k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– 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– 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– 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– 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– 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- 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l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Object 35"/>
          <p:cNvGraphicFramePr/>
          <p:nvPr/>
        </p:nvGraphicFramePr>
        <p:xfrm>
          <a:off x="2971800" y="1447920"/>
          <a:ext cx="5638680" cy="40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447920"/>
                    <a:ext cx="563868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Freeform 36"/>
          <p:cNvSpPr/>
          <p:nvPr/>
        </p:nvSpPr>
        <p:spPr>
          <a:xfrm>
            <a:off x="4156200" y="2036880"/>
            <a:ext cx="4046400" cy="2535120"/>
          </a:xfrm>
          <a:custGeom>
            <a:avLst/>
            <a:gdLst>
              <a:gd name="textAreaLeft" fmla="*/ 0 w 4046400"/>
              <a:gd name="textAreaRight" fmla="*/ 4046760 w 4046400"/>
              <a:gd name="textAreaTop" fmla="*/ 0 h 2535120"/>
              <a:gd name="textAreaBottom" fmla="*/ 2535480 h 2535120"/>
            </a:gdLst>
            <a:ahLst/>
            <a:rect l="textAreaLeft" t="textAreaTop" r="textAreaRight" b="textAreaBottom"/>
            <a:pathLst>
              <a:path w="2549" h="1597">
                <a:moveTo>
                  <a:pt x="0" y="803"/>
                </a:moveTo>
                <a:lnTo>
                  <a:pt x="454" y="1588"/>
                </a:lnTo>
                <a:lnTo>
                  <a:pt x="864" y="0"/>
                </a:lnTo>
                <a:lnTo>
                  <a:pt x="1270" y="1597"/>
                </a:lnTo>
                <a:lnTo>
                  <a:pt x="1658" y="803"/>
                </a:lnTo>
                <a:lnTo>
                  <a:pt x="2095" y="1204"/>
                </a:lnTo>
                <a:lnTo>
                  <a:pt x="2549" y="119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rekans Histogram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24000" y="2637000"/>
          <a:ext cx="3352680" cy="3084480"/>
        </p:xfrm>
        <a:graphic>
          <a:graphicData uri="http://schemas.openxmlformats.org/drawingml/2006/table">
            <a:tbl>
              <a:tblPr/>
              <a:tblGrid>
                <a:gridCol w="1371600"/>
                <a:gridCol w="19810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ını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rikim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k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–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– 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– 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Object 26"/>
          <p:cNvGraphicFramePr/>
          <p:nvPr/>
        </p:nvGraphicFramePr>
        <p:xfrm>
          <a:off x="3635280" y="1725480"/>
          <a:ext cx="5203800" cy="37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725480"/>
                    <a:ext cx="5203800" cy="37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62 Grup"/>
          <p:cNvGrpSpPr/>
          <p:nvPr/>
        </p:nvGrpSpPr>
        <p:grpSpPr>
          <a:xfrm>
            <a:off x="539640" y="1268280"/>
            <a:ext cx="8280360" cy="3961080"/>
            <a:chOff x="539640" y="1268280"/>
            <a:chExt cx="8280360" cy="3961080"/>
          </a:xfrm>
        </p:grpSpPr>
        <p:sp>
          <p:nvSpPr>
            <p:cNvPr id="234" name="4 Düz Bağlayıcı"/>
            <p:cNvSpPr/>
            <p:nvPr/>
          </p:nvSpPr>
          <p:spPr>
            <a:xfrm>
              <a:off x="539640" y="1268280"/>
              <a:ext cx="0" cy="180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10 Dikdörtgen"/>
            <p:cNvSpPr/>
            <p:nvPr/>
          </p:nvSpPr>
          <p:spPr>
            <a:xfrm>
              <a:off x="755640" y="2852640"/>
              <a:ext cx="216000" cy="216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11 Dikdörtgen"/>
            <p:cNvSpPr/>
            <p:nvPr/>
          </p:nvSpPr>
          <p:spPr>
            <a:xfrm>
              <a:off x="971640" y="2564640"/>
              <a:ext cx="216000" cy="504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12 Dikdörtgen"/>
            <p:cNvSpPr/>
            <p:nvPr/>
          </p:nvSpPr>
          <p:spPr>
            <a:xfrm>
              <a:off x="1187640" y="2276640"/>
              <a:ext cx="216000" cy="792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13 Dikdörtgen"/>
            <p:cNvSpPr/>
            <p:nvPr/>
          </p:nvSpPr>
          <p:spPr>
            <a:xfrm>
              <a:off x="1403640" y="1988280"/>
              <a:ext cx="216000" cy="108036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14 Dikdörtgen"/>
            <p:cNvSpPr/>
            <p:nvPr/>
          </p:nvSpPr>
          <p:spPr>
            <a:xfrm>
              <a:off x="1619640" y="2276640"/>
              <a:ext cx="216000" cy="792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15 Dikdörtgen"/>
            <p:cNvSpPr/>
            <p:nvPr/>
          </p:nvSpPr>
          <p:spPr>
            <a:xfrm>
              <a:off x="1835640" y="2564640"/>
              <a:ext cx="216000" cy="504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16 Dikdörtgen"/>
            <p:cNvSpPr/>
            <p:nvPr/>
          </p:nvSpPr>
          <p:spPr>
            <a:xfrm>
              <a:off x="2051640" y="2852640"/>
              <a:ext cx="216000" cy="216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6 Düz Bağlayıcı"/>
            <p:cNvSpPr/>
            <p:nvPr/>
          </p:nvSpPr>
          <p:spPr>
            <a:xfrm>
              <a:off x="539640" y="3068640"/>
              <a:ext cx="2448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17 Düz Bağlayıcı"/>
            <p:cNvSpPr/>
            <p:nvPr/>
          </p:nvSpPr>
          <p:spPr>
            <a:xfrm>
              <a:off x="3419640" y="1268280"/>
              <a:ext cx="0" cy="180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19 Dikdörtgen"/>
            <p:cNvSpPr/>
            <p:nvPr/>
          </p:nvSpPr>
          <p:spPr>
            <a:xfrm>
              <a:off x="3707640" y="2492640"/>
              <a:ext cx="216000" cy="576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20 Dikdörtgen"/>
            <p:cNvSpPr/>
            <p:nvPr/>
          </p:nvSpPr>
          <p:spPr>
            <a:xfrm>
              <a:off x="4139640" y="2276640"/>
              <a:ext cx="216000" cy="792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21 Dikdörtgen"/>
            <p:cNvSpPr/>
            <p:nvPr/>
          </p:nvSpPr>
          <p:spPr>
            <a:xfrm>
              <a:off x="3923640" y="1772280"/>
              <a:ext cx="216000" cy="129636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23 Dikdörtgen"/>
            <p:cNvSpPr/>
            <p:nvPr/>
          </p:nvSpPr>
          <p:spPr>
            <a:xfrm>
              <a:off x="4355640" y="2564640"/>
              <a:ext cx="216000" cy="504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24 Dikdörtgen"/>
            <p:cNvSpPr/>
            <p:nvPr/>
          </p:nvSpPr>
          <p:spPr>
            <a:xfrm>
              <a:off x="4571640" y="2852640"/>
              <a:ext cx="216000" cy="216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25 Düz Bağlayıcı"/>
            <p:cNvSpPr/>
            <p:nvPr/>
          </p:nvSpPr>
          <p:spPr>
            <a:xfrm>
              <a:off x="3419640" y="3068640"/>
              <a:ext cx="2448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26 Düz Bağlayıcı"/>
            <p:cNvSpPr/>
            <p:nvPr/>
          </p:nvSpPr>
          <p:spPr>
            <a:xfrm>
              <a:off x="6156000" y="1268280"/>
              <a:ext cx="0" cy="180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27 Dikdörtgen"/>
            <p:cNvSpPr/>
            <p:nvPr/>
          </p:nvSpPr>
          <p:spPr>
            <a:xfrm>
              <a:off x="6372000" y="2852640"/>
              <a:ext cx="216000" cy="216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28 Dikdörtgen"/>
            <p:cNvSpPr/>
            <p:nvPr/>
          </p:nvSpPr>
          <p:spPr>
            <a:xfrm>
              <a:off x="6588000" y="2564640"/>
              <a:ext cx="216000" cy="504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29 Dikdörtgen"/>
            <p:cNvSpPr/>
            <p:nvPr/>
          </p:nvSpPr>
          <p:spPr>
            <a:xfrm>
              <a:off x="6804000" y="2276640"/>
              <a:ext cx="216000" cy="792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30 Dikdörtgen"/>
            <p:cNvSpPr/>
            <p:nvPr/>
          </p:nvSpPr>
          <p:spPr>
            <a:xfrm>
              <a:off x="7020000" y="1700280"/>
              <a:ext cx="216000" cy="136836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31 Dikdörtgen"/>
            <p:cNvSpPr/>
            <p:nvPr/>
          </p:nvSpPr>
          <p:spPr>
            <a:xfrm>
              <a:off x="7236000" y="2492640"/>
              <a:ext cx="216000" cy="576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33 Dikdörtgen"/>
            <p:cNvSpPr/>
            <p:nvPr/>
          </p:nvSpPr>
          <p:spPr>
            <a:xfrm>
              <a:off x="5436000" y="5013360"/>
              <a:ext cx="216000" cy="216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34 Düz Bağlayıcı"/>
            <p:cNvSpPr/>
            <p:nvPr/>
          </p:nvSpPr>
          <p:spPr>
            <a:xfrm>
              <a:off x="6156000" y="3068640"/>
              <a:ext cx="2448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35 Düz Bağlayıcı"/>
            <p:cNvSpPr/>
            <p:nvPr/>
          </p:nvSpPr>
          <p:spPr>
            <a:xfrm>
              <a:off x="539640" y="3429000"/>
              <a:ext cx="0" cy="180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36 Dikdörtgen"/>
            <p:cNvSpPr/>
            <p:nvPr/>
          </p:nvSpPr>
          <p:spPr>
            <a:xfrm>
              <a:off x="755640" y="5013360"/>
              <a:ext cx="216000" cy="216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38 Dikdörtgen"/>
            <p:cNvSpPr/>
            <p:nvPr/>
          </p:nvSpPr>
          <p:spPr>
            <a:xfrm>
              <a:off x="1187640" y="4437360"/>
              <a:ext cx="216000" cy="792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39 Dikdörtgen"/>
            <p:cNvSpPr/>
            <p:nvPr/>
          </p:nvSpPr>
          <p:spPr>
            <a:xfrm>
              <a:off x="1403640" y="4149000"/>
              <a:ext cx="216000" cy="108036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40 Dikdörtgen"/>
            <p:cNvSpPr/>
            <p:nvPr/>
          </p:nvSpPr>
          <p:spPr>
            <a:xfrm>
              <a:off x="1619640" y="4437360"/>
              <a:ext cx="216000" cy="792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41 Dikdörtgen"/>
            <p:cNvSpPr/>
            <p:nvPr/>
          </p:nvSpPr>
          <p:spPr>
            <a:xfrm>
              <a:off x="1835640" y="4725360"/>
              <a:ext cx="216000" cy="504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42 Dikdörtgen"/>
            <p:cNvSpPr/>
            <p:nvPr/>
          </p:nvSpPr>
          <p:spPr>
            <a:xfrm>
              <a:off x="2051640" y="5013360"/>
              <a:ext cx="216000" cy="216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43 Düz Bağlayıcı"/>
            <p:cNvSpPr/>
            <p:nvPr/>
          </p:nvSpPr>
          <p:spPr>
            <a:xfrm>
              <a:off x="539640" y="5229360"/>
              <a:ext cx="2448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44 Düz Bağlayıcı"/>
            <p:cNvSpPr/>
            <p:nvPr/>
          </p:nvSpPr>
          <p:spPr>
            <a:xfrm>
              <a:off x="3707640" y="3429000"/>
              <a:ext cx="0" cy="180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45 Dikdörtgen"/>
            <p:cNvSpPr/>
            <p:nvPr/>
          </p:nvSpPr>
          <p:spPr>
            <a:xfrm>
              <a:off x="3923640" y="5013360"/>
              <a:ext cx="216000" cy="216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46 Dikdörtgen"/>
            <p:cNvSpPr/>
            <p:nvPr/>
          </p:nvSpPr>
          <p:spPr>
            <a:xfrm>
              <a:off x="4139640" y="4725360"/>
              <a:ext cx="216000" cy="504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47 Dikdörtgen"/>
            <p:cNvSpPr/>
            <p:nvPr/>
          </p:nvSpPr>
          <p:spPr>
            <a:xfrm>
              <a:off x="4355640" y="4437360"/>
              <a:ext cx="216000" cy="792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48 Dikdörtgen"/>
            <p:cNvSpPr/>
            <p:nvPr/>
          </p:nvSpPr>
          <p:spPr>
            <a:xfrm>
              <a:off x="4571640" y="3717000"/>
              <a:ext cx="216000" cy="151236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49 Dikdörtgen"/>
            <p:cNvSpPr/>
            <p:nvPr/>
          </p:nvSpPr>
          <p:spPr>
            <a:xfrm>
              <a:off x="4788000" y="4149000"/>
              <a:ext cx="216000" cy="108036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50 Dikdörtgen"/>
            <p:cNvSpPr/>
            <p:nvPr/>
          </p:nvSpPr>
          <p:spPr>
            <a:xfrm>
              <a:off x="5004000" y="4437360"/>
              <a:ext cx="216000" cy="792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51 Dikdörtgen"/>
            <p:cNvSpPr/>
            <p:nvPr/>
          </p:nvSpPr>
          <p:spPr>
            <a:xfrm>
              <a:off x="5220000" y="4797360"/>
              <a:ext cx="216000" cy="432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52 Düz Bağlayıcı"/>
            <p:cNvSpPr/>
            <p:nvPr/>
          </p:nvSpPr>
          <p:spPr>
            <a:xfrm>
              <a:off x="3707640" y="5229360"/>
              <a:ext cx="2448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53 Düz Bağlayıcı"/>
            <p:cNvSpPr/>
            <p:nvPr/>
          </p:nvSpPr>
          <p:spPr>
            <a:xfrm>
              <a:off x="6372000" y="3429000"/>
              <a:ext cx="0" cy="180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54 Dikdörtgen"/>
            <p:cNvSpPr/>
            <p:nvPr/>
          </p:nvSpPr>
          <p:spPr>
            <a:xfrm>
              <a:off x="6588000" y="4581360"/>
              <a:ext cx="216000" cy="648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55 Dikdörtgen"/>
            <p:cNvSpPr/>
            <p:nvPr/>
          </p:nvSpPr>
          <p:spPr>
            <a:xfrm>
              <a:off x="6804000" y="4365360"/>
              <a:ext cx="216000" cy="864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56 Dikdörtgen"/>
            <p:cNvSpPr/>
            <p:nvPr/>
          </p:nvSpPr>
          <p:spPr>
            <a:xfrm>
              <a:off x="7020000" y="4149000"/>
              <a:ext cx="216000" cy="108036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57 Dikdörtgen"/>
            <p:cNvSpPr/>
            <p:nvPr/>
          </p:nvSpPr>
          <p:spPr>
            <a:xfrm>
              <a:off x="7236000" y="3861000"/>
              <a:ext cx="216000" cy="136836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58 Dikdörtgen"/>
            <p:cNvSpPr/>
            <p:nvPr/>
          </p:nvSpPr>
          <p:spPr>
            <a:xfrm>
              <a:off x="7452000" y="4437360"/>
              <a:ext cx="216000" cy="792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59 Dikdörtgen"/>
            <p:cNvSpPr/>
            <p:nvPr/>
          </p:nvSpPr>
          <p:spPr>
            <a:xfrm>
              <a:off x="7668000" y="4725360"/>
              <a:ext cx="216000" cy="504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60 Dikdörtgen"/>
            <p:cNvSpPr/>
            <p:nvPr/>
          </p:nvSpPr>
          <p:spPr>
            <a:xfrm>
              <a:off x="7884000" y="5013360"/>
              <a:ext cx="216000" cy="2160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61 Düz Bağlayıcı"/>
            <p:cNvSpPr/>
            <p:nvPr/>
          </p:nvSpPr>
          <p:spPr>
            <a:xfrm>
              <a:off x="6372000" y="5229360"/>
              <a:ext cx="2448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63 Serbest Form"/>
          <p:cNvSpPr/>
          <p:nvPr/>
        </p:nvSpPr>
        <p:spPr>
          <a:xfrm>
            <a:off x="849240" y="1978200"/>
            <a:ext cx="1306440" cy="877680"/>
          </a:xfrm>
          <a:custGeom>
            <a:avLst/>
            <a:gdLst/>
            <a:ahLst/>
            <a:rect l="l" t="t" r="r" b="b"/>
            <a:pathLst>
              <a:path w="1306285" h="877077">
                <a:moveTo>
                  <a:pt x="0" y="867747"/>
                </a:moveTo>
                <a:lnTo>
                  <a:pt x="242596" y="578498"/>
                </a:lnTo>
                <a:lnTo>
                  <a:pt x="457200" y="279918"/>
                </a:lnTo>
                <a:lnTo>
                  <a:pt x="671804" y="0"/>
                </a:lnTo>
                <a:lnTo>
                  <a:pt x="886408" y="289249"/>
                </a:lnTo>
                <a:lnTo>
                  <a:pt x="1091681" y="587828"/>
                </a:lnTo>
                <a:lnTo>
                  <a:pt x="1306285" y="877077"/>
                </a:lnTo>
                <a:lnTo>
                  <a:pt x="1306285" y="877077"/>
                </a:lnTo>
              </a:path>
            </a:pathLst>
          </a:cu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65 Serbest Form"/>
          <p:cNvSpPr/>
          <p:nvPr/>
        </p:nvSpPr>
        <p:spPr>
          <a:xfrm>
            <a:off x="3797280" y="1754280"/>
            <a:ext cx="924120" cy="1119240"/>
          </a:xfrm>
          <a:custGeom>
            <a:avLst/>
            <a:gdLst/>
            <a:ahLst/>
            <a:rect l="l" t="t" r="r" b="b"/>
            <a:pathLst>
              <a:path w="923731" h="1119674">
                <a:moveTo>
                  <a:pt x="0" y="737118"/>
                </a:moveTo>
                <a:lnTo>
                  <a:pt x="223935" y="0"/>
                </a:lnTo>
                <a:lnTo>
                  <a:pt x="438539" y="531845"/>
                </a:lnTo>
                <a:lnTo>
                  <a:pt x="662474" y="839755"/>
                </a:lnTo>
                <a:lnTo>
                  <a:pt x="923731" y="1119674"/>
                </a:lnTo>
                <a:lnTo>
                  <a:pt x="923731" y="1119674"/>
                </a:ln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66 Serbest Form"/>
          <p:cNvSpPr/>
          <p:nvPr/>
        </p:nvSpPr>
        <p:spPr>
          <a:xfrm>
            <a:off x="6456240" y="1698480"/>
            <a:ext cx="914400" cy="1148040"/>
          </a:xfrm>
          <a:custGeom>
            <a:avLst/>
            <a:gdLst/>
            <a:ahLst/>
            <a:rect l="l" t="t" r="r" b="b"/>
            <a:pathLst>
              <a:path w="914400" h="1147666">
                <a:moveTo>
                  <a:pt x="0" y="1147666"/>
                </a:moveTo>
                <a:lnTo>
                  <a:pt x="261257" y="858417"/>
                </a:lnTo>
                <a:lnTo>
                  <a:pt x="485192" y="569168"/>
                </a:lnTo>
                <a:lnTo>
                  <a:pt x="681134" y="0"/>
                </a:lnTo>
                <a:lnTo>
                  <a:pt x="914400" y="821094"/>
                </a:lnTo>
                <a:lnTo>
                  <a:pt x="914400" y="821094"/>
                </a:ln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67 Serbest Form"/>
          <p:cNvSpPr/>
          <p:nvPr/>
        </p:nvSpPr>
        <p:spPr>
          <a:xfrm>
            <a:off x="885960" y="4152960"/>
            <a:ext cx="1306440" cy="885600"/>
          </a:xfrm>
          <a:custGeom>
            <a:avLst/>
            <a:gdLst/>
            <a:ahLst/>
            <a:rect l="l" t="t" r="r" b="b"/>
            <a:pathLst>
              <a:path w="1306286" h="886409">
                <a:moveTo>
                  <a:pt x="0" y="867747"/>
                </a:moveTo>
                <a:lnTo>
                  <a:pt x="419878" y="289249"/>
                </a:lnTo>
                <a:lnTo>
                  <a:pt x="625151" y="0"/>
                </a:lnTo>
                <a:lnTo>
                  <a:pt x="886408" y="317241"/>
                </a:lnTo>
                <a:lnTo>
                  <a:pt x="1063690" y="597160"/>
                </a:lnTo>
                <a:lnTo>
                  <a:pt x="1306286" y="886409"/>
                </a:ln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68 Serbest Form"/>
          <p:cNvSpPr/>
          <p:nvPr/>
        </p:nvSpPr>
        <p:spPr>
          <a:xfrm>
            <a:off x="4030560" y="3686040"/>
            <a:ext cx="1549440" cy="1333800"/>
          </a:xfrm>
          <a:custGeom>
            <a:avLst/>
            <a:gdLst/>
            <a:ahLst/>
            <a:rect l="l" t="t" r="r" b="b"/>
            <a:pathLst>
              <a:path w="1548882" h="1334277">
                <a:moveTo>
                  <a:pt x="0" y="1324947"/>
                </a:moveTo>
                <a:lnTo>
                  <a:pt x="251927" y="1035698"/>
                </a:lnTo>
                <a:lnTo>
                  <a:pt x="447870" y="755779"/>
                </a:lnTo>
                <a:lnTo>
                  <a:pt x="671805" y="0"/>
                </a:lnTo>
                <a:lnTo>
                  <a:pt x="877078" y="466530"/>
                </a:lnTo>
                <a:lnTo>
                  <a:pt x="1091682" y="765110"/>
                </a:lnTo>
                <a:lnTo>
                  <a:pt x="1315617" y="1119673"/>
                </a:lnTo>
                <a:lnTo>
                  <a:pt x="1548882" y="1334277"/>
                </a:lnTo>
                <a:lnTo>
                  <a:pt x="1548882" y="1334277"/>
                </a:ln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69 Serbest Form"/>
          <p:cNvSpPr/>
          <p:nvPr/>
        </p:nvSpPr>
        <p:spPr>
          <a:xfrm>
            <a:off x="6670800" y="3862440"/>
            <a:ext cx="1325520" cy="1157400"/>
          </a:xfrm>
          <a:custGeom>
            <a:avLst/>
            <a:gdLst/>
            <a:ahLst/>
            <a:rect l="l" t="t" r="r" b="b"/>
            <a:pathLst>
              <a:path w="1324947" h="1156996">
                <a:moveTo>
                  <a:pt x="0" y="737119"/>
                </a:moveTo>
                <a:lnTo>
                  <a:pt x="251926" y="503854"/>
                </a:lnTo>
                <a:lnTo>
                  <a:pt x="457200" y="298580"/>
                </a:lnTo>
                <a:lnTo>
                  <a:pt x="690465" y="0"/>
                </a:lnTo>
                <a:lnTo>
                  <a:pt x="886408" y="597160"/>
                </a:lnTo>
                <a:lnTo>
                  <a:pt x="1147665" y="858417"/>
                </a:lnTo>
                <a:lnTo>
                  <a:pt x="1324947" y="1156996"/>
                </a:lnTo>
                <a:lnTo>
                  <a:pt x="1324947" y="1156996"/>
                </a:ln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3 Grup"/>
          <p:cNvGrpSpPr/>
          <p:nvPr/>
        </p:nvGrpSpPr>
        <p:grpSpPr>
          <a:xfrm>
            <a:off x="539640" y="1268280"/>
            <a:ext cx="8280360" cy="3961080"/>
            <a:chOff x="539640" y="1268280"/>
            <a:chExt cx="8280360" cy="3961080"/>
          </a:xfrm>
        </p:grpSpPr>
        <p:sp>
          <p:nvSpPr>
            <p:cNvPr id="291" name="4 Düz Bağlayıcı"/>
            <p:cNvSpPr/>
            <p:nvPr/>
          </p:nvSpPr>
          <p:spPr>
            <a:xfrm>
              <a:off x="539640" y="1268280"/>
              <a:ext cx="0" cy="180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12 Düz Bağlayıcı"/>
            <p:cNvSpPr/>
            <p:nvPr/>
          </p:nvSpPr>
          <p:spPr>
            <a:xfrm>
              <a:off x="539640" y="3068640"/>
              <a:ext cx="2448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13 Düz Bağlayıcı"/>
            <p:cNvSpPr/>
            <p:nvPr/>
          </p:nvSpPr>
          <p:spPr>
            <a:xfrm>
              <a:off x="3419640" y="1268280"/>
              <a:ext cx="0" cy="180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19 Düz Bağlayıcı"/>
            <p:cNvSpPr/>
            <p:nvPr/>
          </p:nvSpPr>
          <p:spPr>
            <a:xfrm>
              <a:off x="3419640" y="3068640"/>
              <a:ext cx="2448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20 Düz Bağlayıcı"/>
            <p:cNvSpPr/>
            <p:nvPr/>
          </p:nvSpPr>
          <p:spPr>
            <a:xfrm>
              <a:off x="6156000" y="1268280"/>
              <a:ext cx="0" cy="180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27 Düz Bağlayıcı"/>
            <p:cNvSpPr/>
            <p:nvPr/>
          </p:nvSpPr>
          <p:spPr>
            <a:xfrm>
              <a:off x="6156000" y="3068640"/>
              <a:ext cx="2448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28 Düz Bağlayıcı"/>
            <p:cNvSpPr/>
            <p:nvPr/>
          </p:nvSpPr>
          <p:spPr>
            <a:xfrm>
              <a:off x="539640" y="3429000"/>
              <a:ext cx="0" cy="180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35 Düz Bağlayıcı"/>
            <p:cNvSpPr/>
            <p:nvPr/>
          </p:nvSpPr>
          <p:spPr>
            <a:xfrm>
              <a:off x="539640" y="5229360"/>
              <a:ext cx="2448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36 Düz Bağlayıcı"/>
            <p:cNvSpPr/>
            <p:nvPr/>
          </p:nvSpPr>
          <p:spPr>
            <a:xfrm>
              <a:off x="3707640" y="3429000"/>
              <a:ext cx="0" cy="180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44 Düz Bağlayıcı"/>
            <p:cNvSpPr/>
            <p:nvPr/>
          </p:nvSpPr>
          <p:spPr>
            <a:xfrm>
              <a:off x="3707640" y="5229360"/>
              <a:ext cx="2448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45 Düz Bağlayıcı"/>
            <p:cNvSpPr/>
            <p:nvPr/>
          </p:nvSpPr>
          <p:spPr>
            <a:xfrm>
              <a:off x="6372000" y="3429000"/>
              <a:ext cx="0" cy="180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53 Düz Bağlayıcı"/>
            <p:cNvSpPr/>
            <p:nvPr/>
          </p:nvSpPr>
          <p:spPr>
            <a:xfrm>
              <a:off x="6372000" y="5229360"/>
              <a:ext cx="2448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54 Serbest Form"/>
          <p:cNvSpPr/>
          <p:nvPr/>
        </p:nvSpPr>
        <p:spPr>
          <a:xfrm>
            <a:off x="652320" y="2004840"/>
            <a:ext cx="1792440" cy="1065240"/>
          </a:xfrm>
          <a:custGeom>
            <a:avLst/>
            <a:gdLst/>
            <a:ahLst/>
            <a:rect l="l" t="t" r="r" b="b"/>
            <a:pathLst>
              <a:path w="1791477" h="1065244">
                <a:moveTo>
                  <a:pt x="0" y="1055914"/>
                </a:moveTo>
                <a:cubicBezTo>
                  <a:pt x="251927" y="527957"/>
                  <a:pt x="503854" y="0"/>
                  <a:pt x="802433" y="1555"/>
                </a:cubicBezTo>
                <a:cubicBezTo>
                  <a:pt x="1101012" y="3110"/>
                  <a:pt x="1446244" y="534177"/>
                  <a:pt x="1791477" y="1065244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55 Serbest Form"/>
          <p:cNvSpPr/>
          <p:nvPr/>
        </p:nvSpPr>
        <p:spPr>
          <a:xfrm>
            <a:off x="3565440" y="1644480"/>
            <a:ext cx="2024280" cy="1416240"/>
          </a:xfrm>
          <a:custGeom>
            <a:avLst/>
            <a:gdLst/>
            <a:ahLst/>
            <a:rect l="l" t="t" r="r" b="b"/>
            <a:pathLst>
              <a:path w="2023188" h="1415143">
                <a:moveTo>
                  <a:pt x="7775" y="1415143"/>
                </a:moveTo>
                <a:cubicBezTo>
                  <a:pt x="3887" y="769775"/>
                  <a:pt x="0" y="124408"/>
                  <a:pt x="138404" y="62204"/>
                </a:cubicBezTo>
                <a:cubicBezTo>
                  <a:pt x="276808" y="0"/>
                  <a:pt x="524069" y="817983"/>
                  <a:pt x="838200" y="1041918"/>
                </a:cubicBezTo>
                <a:cubicBezTo>
                  <a:pt x="1152331" y="1265853"/>
                  <a:pt x="1587759" y="1335832"/>
                  <a:pt x="2023188" y="1405812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56 Serbest Form"/>
          <p:cNvSpPr/>
          <p:nvPr/>
        </p:nvSpPr>
        <p:spPr>
          <a:xfrm>
            <a:off x="6280200" y="1641600"/>
            <a:ext cx="2062080" cy="1438200"/>
          </a:xfrm>
          <a:custGeom>
            <a:avLst/>
            <a:gdLst/>
            <a:ahLst/>
            <a:rect l="l" t="t" r="r" b="b"/>
            <a:pathLst>
              <a:path w="2062065" h="1436915">
                <a:moveTo>
                  <a:pt x="0" y="1436915"/>
                </a:moveTo>
                <a:cubicBezTo>
                  <a:pt x="251926" y="1391817"/>
                  <a:pt x="503853" y="1346719"/>
                  <a:pt x="699796" y="1240972"/>
                </a:cubicBezTo>
                <a:cubicBezTo>
                  <a:pt x="895739" y="1135225"/>
                  <a:pt x="1027922" y="992156"/>
                  <a:pt x="1175657" y="802433"/>
                </a:cubicBezTo>
                <a:cubicBezTo>
                  <a:pt x="1323392" y="612711"/>
                  <a:pt x="1438469" y="0"/>
                  <a:pt x="1586204" y="102637"/>
                </a:cubicBezTo>
                <a:cubicBezTo>
                  <a:pt x="1733939" y="205274"/>
                  <a:pt x="1898002" y="811764"/>
                  <a:pt x="2062065" y="1418254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57 Serbest Form"/>
          <p:cNvSpPr/>
          <p:nvPr/>
        </p:nvSpPr>
        <p:spPr>
          <a:xfrm>
            <a:off x="1203480" y="3870360"/>
            <a:ext cx="438120" cy="1363680"/>
          </a:xfrm>
          <a:custGeom>
            <a:avLst/>
            <a:gdLst/>
            <a:ahLst/>
            <a:rect l="l" t="t" r="r" b="b"/>
            <a:pathLst>
              <a:path w="438539" h="1363824">
                <a:moveTo>
                  <a:pt x="0" y="1363824"/>
                </a:moveTo>
                <a:cubicBezTo>
                  <a:pt x="108079" y="683467"/>
                  <a:pt x="216159" y="3110"/>
                  <a:pt x="289249" y="1555"/>
                </a:cubicBezTo>
                <a:cubicBezTo>
                  <a:pt x="362339" y="0"/>
                  <a:pt x="400439" y="677247"/>
                  <a:pt x="438539" y="1354494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58 Serbest Form"/>
          <p:cNvSpPr/>
          <p:nvPr/>
        </p:nvSpPr>
        <p:spPr>
          <a:xfrm>
            <a:off x="3713040" y="4786200"/>
            <a:ext cx="1978200" cy="438120"/>
          </a:xfrm>
          <a:custGeom>
            <a:avLst/>
            <a:gdLst/>
            <a:ahLst/>
            <a:rect l="l" t="t" r="r" b="b"/>
            <a:pathLst>
              <a:path w="1978089" h="438539">
                <a:moveTo>
                  <a:pt x="0" y="438539"/>
                </a:moveTo>
                <a:cubicBezTo>
                  <a:pt x="320351" y="219269"/>
                  <a:pt x="640702" y="0"/>
                  <a:pt x="970383" y="0"/>
                </a:cubicBezTo>
                <a:cubicBezTo>
                  <a:pt x="1300064" y="0"/>
                  <a:pt x="1639076" y="219269"/>
                  <a:pt x="1978089" y="438539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59 Serbest Form"/>
          <p:cNvSpPr/>
          <p:nvPr/>
        </p:nvSpPr>
        <p:spPr>
          <a:xfrm>
            <a:off x="6550200" y="3956040"/>
            <a:ext cx="2230200" cy="1260360"/>
          </a:xfrm>
          <a:custGeom>
            <a:avLst/>
            <a:gdLst/>
            <a:ahLst/>
            <a:rect l="l" t="t" r="r" b="b"/>
            <a:pathLst>
              <a:path w="2230016" h="1259632">
                <a:moveTo>
                  <a:pt x="0" y="1259632"/>
                </a:moveTo>
                <a:cubicBezTo>
                  <a:pt x="114300" y="1087793"/>
                  <a:pt x="228600" y="915955"/>
                  <a:pt x="335902" y="709126"/>
                </a:cubicBezTo>
                <a:cubicBezTo>
                  <a:pt x="443204" y="502298"/>
                  <a:pt x="522514" y="37322"/>
                  <a:pt x="643812" y="18661"/>
                </a:cubicBezTo>
                <a:cubicBezTo>
                  <a:pt x="765110" y="0"/>
                  <a:pt x="933062" y="457200"/>
                  <a:pt x="1063690" y="597159"/>
                </a:cubicBezTo>
                <a:cubicBezTo>
                  <a:pt x="1194318" y="737118"/>
                  <a:pt x="1301620" y="772885"/>
                  <a:pt x="1427583" y="858416"/>
                </a:cubicBezTo>
                <a:cubicBezTo>
                  <a:pt x="1553546" y="943947"/>
                  <a:pt x="1685730" y="1045028"/>
                  <a:pt x="1819469" y="1110342"/>
                </a:cubicBezTo>
                <a:cubicBezTo>
                  <a:pt x="1953208" y="1175656"/>
                  <a:pt x="2091612" y="1212979"/>
                  <a:pt x="2230016" y="1250302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Misis Köprüsü"/>
          <p:cNvPicPr/>
          <p:nvPr/>
        </p:nvPicPr>
        <p:blipFill>
          <a:blip r:embed="rId1"/>
          <a:stretch/>
        </p:blipFill>
        <p:spPr>
          <a:xfrm>
            <a:off x="6292800" y="0"/>
            <a:ext cx="2851200" cy="227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5003640" y="2708280"/>
          <a:ext cx="4038840" cy="3962520"/>
        </p:xfrm>
        <a:graphic>
          <a:graphicData uri="http://schemas.openxmlformats.org/drawingml/2006/table">
            <a:tbl>
              <a:tblPr/>
              <a:tblGrid>
                <a:gridCol w="1725840"/>
                <a:gridCol w="231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ari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n Büyük Debi (m</a:t>
                      </a:r>
                      <a:r>
                        <a:rPr b="1" lang="tr-TR" sz="1800" spc="-1" strike="noStrike" baseline="30000">
                          <a:solidFill>
                            <a:srgbClr val="00007d"/>
                          </a:solidFill>
                          <a:latin typeface="Arial"/>
                        </a:rPr>
                        <a:t>3</a:t>
                      </a:r>
                      <a:r>
                        <a:rPr b="1" lang="tr-TR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/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4/19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3/19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4/1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3/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/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4/19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/3/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/2/19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/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61" descr="ermenek_gormeli"/>
          <p:cNvPicPr/>
          <p:nvPr/>
        </p:nvPicPr>
        <p:blipFill>
          <a:blip r:embed="rId2"/>
          <a:stretch/>
        </p:blipFill>
        <p:spPr>
          <a:xfrm>
            <a:off x="3635280" y="0"/>
            <a:ext cx="2494080" cy="2276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6" descr="kutumenfezyigilca"/>
          <p:cNvPicPr/>
          <p:nvPr/>
        </p:nvPicPr>
        <p:blipFill>
          <a:blip r:embed="rId3"/>
          <a:stretch/>
        </p:blipFill>
        <p:spPr>
          <a:xfrm>
            <a:off x="0" y="3860640"/>
            <a:ext cx="4859280" cy="2773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1" descr="15"/>
          <p:cNvPicPr/>
          <p:nvPr/>
        </p:nvPicPr>
        <p:blipFill>
          <a:blip r:embed="rId4"/>
          <a:stretch/>
        </p:blipFill>
        <p:spPr>
          <a:xfrm>
            <a:off x="0" y="0"/>
            <a:ext cx="356400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baraj_by"/>
          <p:cNvPicPr/>
          <p:nvPr/>
        </p:nvPicPr>
        <p:blipFill>
          <a:blip r:embed="rId1"/>
          <a:stretch/>
        </p:blipFill>
        <p:spPr>
          <a:xfrm>
            <a:off x="0" y="0"/>
            <a:ext cx="914400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ak1ba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Picture of a busy motorway"/>
          <p:cNvPicPr/>
          <p:nvPr/>
        </p:nvPicPr>
        <p:blipFill>
          <a:blip r:embed="rId1"/>
          <a:stretch/>
        </p:blipFill>
        <p:spPr>
          <a:xfrm>
            <a:off x="0" y="0"/>
            <a:ext cx="4859280" cy="3500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aerial photographs of traffic-jam on the  M62 Motorway in the UK"/>
          <p:cNvPicPr/>
          <p:nvPr/>
        </p:nvPicPr>
        <p:blipFill>
          <a:blip r:embed="rId2"/>
          <a:stretch/>
        </p:blipFill>
        <p:spPr>
          <a:xfrm>
            <a:off x="0" y="3573360"/>
            <a:ext cx="91440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Bimtaş Laboratuvar"/>
          <p:cNvPicPr/>
          <p:nvPr/>
        </p:nvPicPr>
        <p:blipFill>
          <a:blip r:embed="rId1"/>
          <a:stretch/>
        </p:blipFill>
        <p:spPr>
          <a:xfrm>
            <a:off x="0" y="765000"/>
            <a:ext cx="3851280" cy="289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Bimtaş Laboratuvar"/>
          <p:cNvPicPr/>
          <p:nvPr/>
        </p:nvPicPr>
        <p:blipFill>
          <a:blip r:embed="rId2"/>
          <a:stretch/>
        </p:blipFill>
        <p:spPr>
          <a:xfrm>
            <a:off x="0" y="4041720"/>
            <a:ext cx="3745080" cy="2816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hazbeton_02"/>
          <p:cNvPicPr/>
          <p:nvPr/>
        </p:nvPicPr>
        <p:blipFill>
          <a:blip r:embed="rId3"/>
          <a:stretch/>
        </p:blipFill>
        <p:spPr>
          <a:xfrm>
            <a:off x="4572000" y="0"/>
            <a:ext cx="4262400" cy="4365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celik-curufres2"/>
          <p:cNvPicPr/>
          <p:nvPr/>
        </p:nvPicPr>
        <p:blipFill>
          <a:blip r:embed="rId4"/>
          <a:stretch/>
        </p:blipFill>
        <p:spPr>
          <a:xfrm>
            <a:off x="4067280" y="4437000"/>
            <a:ext cx="314640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insaat_demiri"/>
          <p:cNvPicPr/>
          <p:nvPr/>
        </p:nvPicPr>
        <p:blipFill>
          <a:blip r:embed="rId1"/>
          <a:stretch/>
        </p:blipFill>
        <p:spPr>
          <a:xfrm>
            <a:off x="0" y="0"/>
            <a:ext cx="4500720" cy="3271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374594374"/>
          <p:cNvPicPr/>
          <p:nvPr/>
        </p:nvPicPr>
        <p:blipFill>
          <a:blip r:embed="rId2"/>
          <a:stretch/>
        </p:blipFill>
        <p:spPr>
          <a:xfrm>
            <a:off x="4788000" y="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556406747"/>
          <p:cNvPicPr/>
          <p:nvPr/>
        </p:nvPicPr>
        <p:blipFill>
          <a:blip r:embed="rId3"/>
          <a:stretch/>
        </p:blipFill>
        <p:spPr>
          <a:xfrm>
            <a:off x="0" y="3484440"/>
            <a:ext cx="4500720" cy="337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485304233"/>
          <p:cNvPicPr/>
          <p:nvPr/>
        </p:nvPicPr>
        <p:blipFill>
          <a:blip r:embed="rId4"/>
          <a:stretch/>
        </p:blipFill>
        <p:spPr>
          <a:xfrm>
            <a:off x="4788000" y="3592440"/>
            <a:ext cx="43560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13:08:06Z</dcterms:created>
  <dc:creator>DATRON AERO KN1</dc:creator>
  <dc:description/>
  <dc:language>en-US</dc:language>
  <cp:lastModifiedBy>kare</cp:lastModifiedBy>
  <dcterms:modified xsi:type="dcterms:W3CDTF">2010-10-05T10:40:02Z</dcterms:modified>
  <cp:revision>37</cp:revision>
  <dc:subject/>
  <dc:title>Mühendislikte İstatistik Metotlar</dc:title>
</cp:coreProperties>
</file>